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911-3B83-4C93-9A18-9B28B151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4B9-C572-4DB3-A9B7-E96EB6EE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EBE-FBE8-4E51-96D2-91F5B560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6B8-C230-4850-AB42-585A0131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15B4-1418-4DF0-96C3-7CF40DBD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3DE5-A2D7-4BD2-8F91-6773F94C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EEB8-3A57-4D4E-9A40-6F19B0E9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F73C-21D6-4F6A-9D80-47CCF45D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4C09-B0E1-4CAB-95A7-3250D24B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7F1C-6DF0-4BBE-8A07-1A896FC5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20D5-FD4A-43F6-A4DC-9188EF3E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78D-D8AE-45D4-97B5-0C0B86DE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9C4B-E1F2-42FF-A210-F8B4C24C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37A4-AB61-40EF-8392-3439AA0B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C47E-DD38-4CEF-8901-2E516E07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573D-5683-40BE-921B-ABDAD0A1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E307-96F9-4F33-9EA9-E3000C11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48F-0CE3-45CC-9DC2-95200A38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58C7-0509-4720-B864-A433C5B0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BEE-7320-48FA-85DC-CAE6053D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06F-E5D8-4484-85AF-1E82AB33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322-1680-41C0-A7D5-54129E26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EFD-0708-4462-9B03-FA71013F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7F1-D96A-4AA4-9F62-D0728611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1A1A-17C9-4656-A63E-C47B5D0198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1E0B-29D1-4FE0-A614-8DDEA34928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pener: Solve the Subtraction Eq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) y – 12 = 2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) j - 1.3 = 3.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) n - 18 = 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446120" y="1633680"/>
            <a:ext cx="98640" cy="11736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4167" y="4539"/>
                </a:moveTo>
                <a:cubicBezTo>
                  <a:pt x="4167" y="4649"/>
                  <a:pt x="4182" y="4768"/>
                  <a:pt x="4142" y="4862"/>
                </a:cubicBezTo>
              </a:path>
              <a:path w="274" h="324">
                <a:moveTo>
                  <a:pt x="4018" y="4762"/>
                </a:moveTo>
                <a:cubicBezTo>
                  <a:pt x="4112" y="4739"/>
                  <a:pt x="4196" y="4720"/>
                  <a:pt x="4291" y="47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87680" y="1652760"/>
            <a:ext cx="1440" cy="106200"/>
          </a:xfrm>
          <a:custGeom>
            <a:avLst/>
            <a:gdLst/>
            <a:ahLst/>
            <a:rect l="l" t="t" r="r" b="b"/>
            <a:pathLst>
              <a:path w="1" h="299">
                <a:moveTo>
                  <a:pt x="4688" y="4589"/>
                </a:moveTo>
                <a:cubicBezTo>
                  <a:pt x="4688" y="4688"/>
                  <a:pt x="4688" y="4788"/>
                  <a:pt x="4688" y="48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5320" y="1616040"/>
            <a:ext cx="79560" cy="152280"/>
          </a:xfrm>
          <a:custGeom>
            <a:avLst/>
            <a:gdLst/>
            <a:ahLst/>
            <a:rect l="l" t="t" r="r" b="b"/>
            <a:pathLst>
              <a:path w="224" h="422">
                <a:moveTo>
                  <a:pt x="5085" y="4514"/>
                </a:moveTo>
                <a:cubicBezTo>
                  <a:pt x="5138" y="4492"/>
                  <a:pt x="5189" y="4459"/>
                  <a:pt x="5209" y="4539"/>
                </a:cubicBezTo>
                <a:cubicBezTo>
                  <a:pt x="5236" y="4648"/>
                  <a:pt x="5111" y="4680"/>
                  <a:pt x="5060" y="4738"/>
                </a:cubicBezTo>
                <a:cubicBezTo>
                  <a:pt x="5033" y="4791"/>
                  <a:pt x="5021" y="4811"/>
                  <a:pt x="4986" y="4837"/>
                </a:cubicBezTo>
                <a:cubicBezTo>
                  <a:pt x="5060" y="4865"/>
                  <a:pt x="5131" y="4883"/>
                  <a:pt x="5209" y="49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38160" y="1857240"/>
            <a:ext cx="1625760" cy="54000"/>
          </a:xfrm>
          <a:custGeom>
            <a:avLst/>
            <a:gdLst/>
            <a:ahLst/>
            <a:rect l="l" t="t" r="r" b="b"/>
            <a:pathLst>
              <a:path w="4516" h="150">
                <a:moveTo>
                  <a:pt x="2604" y="5159"/>
                </a:moveTo>
                <a:cubicBezTo>
                  <a:pt x="2695" y="5174"/>
                  <a:pt x="2779" y="5184"/>
                  <a:pt x="2877" y="5184"/>
                </a:cubicBezTo>
                <a:cubicBezTo>
                  <a:pt x="3103" y="5184"/>
                  <a:pt x="3327" y="5186"/>
                  <a:pt x="3547" y="5209"/>
                </a:cubicBezTo>
                <a:cubicBezTo>
                  <a:pt x="3860" y="5242"/>
                  <a:pt x="4207" y="5208"/>
                  <a:pt x="4514" y="5184"/>
                </a:cubicBezTo>
                <a:cubicBezTo>
                  <a:pt x="4596" y="5177"/>
                  <a:pt x="4643" y="5203"/>
                  <a:pt x="4713" y="5209"/>
                </a:cubicBezTo>
                <a:cubicBezTo>
                  <a:pt x="5099" y="5240"/>
                  <a:pt x="5496" y="5204"/>
                  <a:pt x="5879" y="5234"/>
                </a:cubicBezTo>
                <a:cubicBezTo>
                  <a:pt x="6051" y="5248"/>
                  <a:pt x="6228" y="5242"/>
                  <a:pt x="6400" y="5259"/>
                </a:cubicBezTo>
                <a:cubicBezTo>
                  <a:pt x="6597" y="5279"/>
                  <a:pt x="6797" y="5302"/>
                  <a:pt x="6995" y="5308"/>
                </a:cubicBezTo>
                <a:cubicBezTo>
                  <a:pt x="7061" y="5308"/>
                  <a:pt x="7078" y="5308"/>
                  <a:pt x="7119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0200" y="1990800"/>
            <a:ext cx="152640" cy="250920"/>
          </a:xfrm>
          <a:custGeom>
            <a:avLst/>
            <a:gdLst/>
            <a:ahLst/>
            <a:rect l="l" t="t" r="r" b="b"/>
            <a:pathLst>
              <a:path w="423" h="696">
                <a:moveTo>
                  <a:pt x="3696" y="5581"/>
                </a:moveTo>
                <a:cubicBezTo>
                  <a:pt x="3778" y="5712"/>
                  <a:pt x="3850" y="5839"/>
                  <a:pt x="3919" y="5978"/>
                </a:cubicBezTo>
              </a:path>
              <a:path w="423" h="696">
                <a:moveTo>
                  <a:pt x="4118" y="5531"/>
                </a:moveTo>
                <a:cubicBezTo>
                  <a:pt x="4085" y="5711"/>
                  <a:pt x="3999" y="5878"/>
                  <a:pt x="3944" y="6052"/>
                </a:cubicBezTo>
                <a:cubicBezTo>
                  <a:pt x="3924" y="6151"/>
                  <a:pt x="3916" y="6167"/>
                  <a:pt x="3919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58960" y="1919160"/>
            <a:ext cx="285840" cy="162000"/>
          </a:xfrm>
          <a:custGeom>
            <a:avLst/>
            <a:gdLst/>
            <a:ahLst/>
            <a:rect l="l" t="t" r="r" b="b"/>
            <a:pathLst>
              <a:path w="794" h="447">
                <a:moveTo>
                  <a:pt x="4936" y="5333"/>
                </a:moveTo>
                <a:cubicBezTo>
                  <a:pt x="4908" y="5367"/>
                  <a:pt x="4895" y="5389"/>
                  <a:pt x="4887" y="5432"/>
                </a:cubicBezTo>
                <a:cubicBezTo>
                  <a:pt x="5003" y="5452"/>
                  <a:pt x="5054" y="5455"/>
                  <a:pt x="5085" y="5333"/>
                </a:cubicBezTo>
              </a:path>
              <a:path w="794" h="447">
                <a:moveTo>
                  <a:pt x="5383" y="5606"/>
                </a:moveTo>
                <a:cubicBezTo>
                  <a:pt x="5488" y="5589"/>
                  <a:pt x="5574" y="5581"/>
                  <a:pt x="5680" y="5581"/>
                </a:cubicBezTo>
              </a:path>
              <a:path w="794" h="447">
                <a:moveTo>
                  <a:pt x="5432" y="5779"/>
                </a:moveTo>
                <a:cubicBezTo>
                  <a:pt x="5490" y="5779"/>
                  <a:pt x="5548" y="5779"/>
                  <a:pt x="5606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97080" y="1643040"/>
            <a:ext cx="419040" cy="500040"/>
          </a:xfrm>
          <a:custGeom>
            <a:avLst/>
            <a:gdLst/>
            <a:ahLst/>
            <a:rect l="l" t="t" r="r" b="b"/>
            <a:pathLst>
              <a:path w="1167" h="1390">
                <a:moveTo>
                  <a:pt x="6176" y="4564"/>
                </a:moveTo>
                <a:cubicBezTo>
                  <a:pt x="6176" y="4663"/>
                  <a:pt x="6176" y="4763"/>
                  <a:pt x="6176" y="4862"/>
                </a:cubicBezTo>
              </a:path>
              <a:path w="1167" h="1390">
                <a:moveTo>
                  <a:pt x="6102" y="4762"/>
                </a:moveTo>
                <a:cubicBezTo>
                  <a:pt x="6160" y="4734"/>
                  <a:pt x="6206" y="4738"/>
                  <a:pt x="6276" y="4738"/>
                </a:cubicBezTo>
              </a:path>
              <a:path w="1167" h="1390">
                <a:moveTo>
                  <a:pt x="6722" y="4564"/>
                </a:moveTo>
                <a:cubicBezTo>
                  <a:pt x="6697" y="4655"/>
                  <a:pt x="6697" y="4740"/>
                  <a:pt x="6697" y="4837"/>
                </a:cubicBezTo>
              </a:path>
              <a:path w="1167" h="1390">
                <a:moveTo>
                  <a:pt x="7045" y="4564"/>
                </a:moveTo>
                <a:cubicBezTo>
                  <a:pt x="7191" y="4577"/>
                  <a:pt x="7197" y="4617"/>
                  <a:pt x="7119" y="4738"/>
                </a:cubicBezTo>
                <a:cubicBezTo>
                  <a:pt x="7073" y="4807"/>
                  <a:pt x="7060" y="4827"/>
                  <a:pt x="7020" y="4862"/>
                </a:cubicBezTo>
                <a:cubicBezTo>
                  <a:pt x="7106" y="4876"/>
                  <a:pt x="7179" y="4911"/>
                  <a:pt x="7268" y="4911"/>
                </a:cubicBezTo>
              </a:path>
              <a:path w="1167" h="1390">
                <a:moveTo>
                  <a:pt x="6424" y="5482"/>
                </a:moveTo>
                <a:cubicBezTo>
                  <a:pt x="6491" y="5460"/>
                  <a:pt x="6509" y="5448"/>
                  <a:pt x="6548" y="5482"/>
                </a:cubicBezTo>
                <a:cubicBezTo>
                  <a:pt x="6562" y="5599"/>
                  <a:pt x="6507" y="5620"/>
                  <a:pt x="6400" y="5680"/>
                </a:cubicBezTo>
                <a:cubicBezTo>
                  <a:pt x="6480" y="5680"/>
                  <a:pt x="6609" y="5661"/>
                  <a:pt x="6598" y="5779"/>
                </a:cubicBezTo>
                <a:cubicBezTo>
                  <a:pt x="6584" y="5931"/>
                  <a:pt x="6418" y="5941"/>
                  <a:pt x="6300" y="5928"/>
                </a:cubicBezTo>
                <a:cubicBezTo>
                  <a:pt x="6275" y="5920"/>
                  <a:pt x="6251" y="5912"/>
                  <a:pt x="6226" y="5904"/>
                </a:cubicBezTo>
              </a:path>
              <a:path w="1167" h="1390">
                <a:moveTo>
                  <a:pt x="6896" y="5531"/>
                </a:moveTo>
                <a:cubicBezTo>
                  <a:pt x="6943" y="5516"/>
                  <a:pt x="7092" y="5443"/>
                  <a:pt x="7144" y="5482"/>
                </a:cubicBezTo>
                <a:cubicBezTo>
                  <a:pt x="7235" y="5551"/>
                  <a:pt x="7105" y="5623"/>
                  <a:pt x="7069" y="5655"/>
                </a:cubicBezTo>
                <a:cubicBezTo>
                  <a:pt x="7061" y="5672"/>
                  <a:pt x="7053" y="5688"/>
                  <a:pt x="7045" y="5705"/>
                </a:cubicBezTo>
                <a:cubicBezTo>
                  <a:pt x="7146" y="5714"/>
                  <a:pt x="7228" y="5727"/>
                  <a:pt x="7169" y="5854"/>
                </a:cubicBezTo>
                <a:cubicBezTo>
                  <a:pt x="7112" y="5977"/>
                  <a:pt x="7030" y="5961"/>
                  <a:pt x="6921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04920" y="2759040"/>
            <a:ext cx="1662120" cy="554040"/>
          </a:xfrm>
          <a:custGeom>
            <a:avLst/>
            <a:gdLst/>
            <a:ahLst/>
            <a:rect l="l" t="t" r="r" b="b"/>
            <a:pathLst>
              <a:path w="4614" h="1539">
                <a:moveTo>
                  <a:pt x="4192" y="7813"/>
                </a:moveTo>
                <a:cubicBezTo>
                  <a:pt x="4174" y="7909"/>
                  <a:pt x="4155" y="7952"/>
                  <a:pt x="4192" y="8037"/>
                </a:cubicBezTo>
              </a:path>
              <a:path w="4614" h="1539">
                <a:moveTo>
                  <a:pt x="4068" y="7987"/>
                </a:moveTo>
                <a:cubicBezTo>
                  <a:pt x="4144" y="7968"/>
                  <a:pt x="4217" y="7952"/>
                  <a:pt x="4291" y="7938"/>
                </a:cubicBezTo>
              </a:path>
              <a:path w="4614" h="1539">
                <a:moveTo>
                  <a:pt x="4738" y="7838"/>
                </a:moveTo>
                <a:cubicBezTo>
                  <a:pt x="4738" y="7936"/>
                  <a:pt x="4733" y="8021"/>
                  <a:pt x="4762" y="8111"/>
                </a:cubicBezTo>
              </a:path>
              <a:path w="4614" h="1539">
                <a:moveTo>
                  <a:pt x="5035" y="8062"/>
                </a:moveTo>
                <a:cubicBezTo>
                  <a:pt x="5035" y="8078"/>
                  <a:pt x="5035" y="8095"/>
                  <a:pt x="5035" y="8111"/>
                </a:cubicBezTo>
              </a:path>
              <a:path w="4614" h="1539">
                <a:moveTo>
                  <a:pt x="5184" y="7863"/>
                </a:moveTo>
                <a:cubicBezTo>
                  <a:pt x="5241" y="7834"/>
                  <a:pt x="5316" y="7775"/>
                  <a:pt x="5383" y="7789"/>
                </a:cubicBezTo>
                <a:cubicBezTo>
                  <a:pt x="5509" y="7816"/>
                  <a:pt x="5393" y="7868"/>
                  <a:pt x="5358" y="7888"/>
                </a:cubicBezTo>
                <a:cubicBezTo>
                  <a:pt x="5405" y="7912"/>
                  <a:pt x="5452" y="7920"/>
                  <a:pt x="5507" y="7938"/>
                </a:cubicBezTo>
                <a:cubicBezTo>
                  <a:pt x="5499" y="8026"/>
                  <a:pt x="5487" y="8107"/>
                  <a:pt x="5383" y="8136"/>
                </a:cubicBezTo>
                <a:cubicBezTo>
                  <a:pt x="5331" y="8136"/>
                  <a:pt x="5313" y="8135"/>
                  <a:pt x="5283" y="8111"/>
                </a:cubicBezTo>
              </a:path>
              <a:path w="4614" h="1539">
                <a:moveTo>
                  <a:pt x="3349" y="8483"/>
                </a:moveTo>
                <a:cubicBezTo>
                  <a:pt x="3429" y="8478"/>
                  <a:pt x="3493" y="8463"/>
                  <a:pt x="3572" y="8458"/>
                </a:cubicBezTo>
                <a:cubicBezTo>
                  <a:pt x="3739" y="8447"/>
                  <a:pt x="3903" y="8456"/>
                  <a:pt x="4068" y="8434"/>
                </a:cubicBezTo>
                <a:cubicBezTo>
                  <a:pt x="4191" y="8418"/>
                  <a:pt x="4315" y="8391"/>
                  <a:pt x="4440" y="8384"/>
                </a:cubicBezTo>
                <a:cubicBezTo>
                  <a:pt x="4540" y="8378"/>
                  <a:pt x="4642" y="8365"/>
                  <a:pt x="4738" y="8359"/>
                </a:cubicBezTo>
                <a:cubicBezTo>
                  <a:pt x="4847" y="8352"/>
                  <a:pt x="4952" y="8349"/>
                  <a:pt x="5060" y="8334"/>
                </a:cubicBezTo>
                <a:cubicBezTo>
                  <a:pt x="5159" y="8320"/>
                  <a:pt x="5259" y="8324"/>
                  <a:pt x="5358" y="8310"/>
                </a:cubicBezTo>
                <a:cubicBezTo>
                  <a:pt x="5478" y="8294"/>
                  <a:pt x="5586" y="8259"/>
                  <a:pt x="5705" y="8235"/>
                </a:cubicBezTo>
                <a:cubicBezTo>
                  <a:pt x="5803" y="8215"/>
                  <a:pt x="5904" y="8206"/>
                  <a:pt x="6003" y="8186"/>
                </a:cubicBezTo>
                <a:cubicBezTo>
                  <a:pt x="6119" y="8163"/>
                  <a:pt x="6233" y="8140"/>
                  <a:pt x="6350" y="8111"/>
                </a:cubicBezTo>
                <a:cubicBezTo>
                  <a:pt x="6503" y="8072"/>
                  <a:pt x="6664" y="8069"/>
                  <a:pt x="6821" y="8037"/>
                </a:cubicBezTo>
                <a:cubicBezTo>
                  <a:pt x="6973" y="8007"/>
                  <a:pt x="7139" y="7978"/>
                  <a:pt x="7293" y="7962"/>
                </a:cubicBezTo>
                <a:cubicBezTo>
                  <a:pt x="7412" y="7950"/>
                  <a:pt x="7523" y="7939"/>
                  <a:pt x="7640" y="7913"/>
                </a:cubicBezTo>
                <a:cubicBezTo>
                  <a:pt x="7714" y="7897"/>
                  <a:pt x="7787" y="7900"/>
                  <a:pt x="7863" y="7888"/>
                </a:cubicBezTo>
                <a:cubicBezTo>
                  <a:pt x="7911" y="7864"/>
                  <a:pt x="7925" y="7856"/>
                  <a:pt x="7962" y="7863"/>
                </a:cubicBezTo>
              </a:path>
              <a:path w="4614" h="1539">
                <a:moveTo>
                  <a:pt x="5259" y="8434"/>
                </a:moveTo>
                <a:cubicBezTo>
                  <a:pt x="5196" y="8527"/>
                  <a:pt x="5118" y="8594"/>
                  <a:pt x="5085" y="8706"/>
                </a:cubicBezTo>
                <a:cubicBezTo>
                  <a:pt x="5085" y="8714"/>
                  <a:pt x="5085" y="8723"/>
                  <a:pt x="5085" y="8731"/>
                </a:cubicBezTo>
                <a:cubicBezTo>
                  <a:pt x="5197" y="8748"/>
                  <a:pt x="5351" y="8746"/>
                  <a:pt x="5358" y="8582"/>
                </a:cubicBezTo>
                <a:cubicBezTo>
                  <a:pt x="5330" y="8526"/>
                  <a:pt x="5314" y="8507"/>
                  <a:pt x="5259" y="8508"/>
                </a:cubicBezTo>
              </a:path>
              <a:path w="4614" h="1539">
                <a:moveTo>
                  <a:pt x="6796" y="7789"/>
                </a:moveTo>
                <a:cubicBezTo>
                  <a:pt x="6796" y="7863"/>
                  <a:pt x="6796" y="7888"/>
                  <a:pt x="6796" y="7938"/>
                </a:cubicBezTo>
              </a:path>
              <a:path w="4614" h="1539">
                <a:moveTo>
                  <a:pt x="7045" y="7863"/>
                </a:moveTo>
                <a:lnTo>
                  <a:pt x="7045" y="7863"/>
                </a:lnTo>
              </a:path>
              <a:path w="4614" h="1539">
                <a:moveTo>
                  <a:pt x="7417" y="7714"/>
                </a:moveTo>
                <a:cubicBezTo>
                  <a:pt x="7457" y="7709"/>
                  <a:pt x="7572" y="7646"/>
                  <a:pt x="7590" y="7689"/>
                </a:cubicBezTo>
                <a:cubicBezTo>
                  <a:pt x="7613" y="7744"/>
                  <a:pt x="7546" y="7783"/>
                  <a:pt x="7516" y="7813"/>
                </a:cubicBezTo>
                <a:cubicBezTo>
                  <a:pt x="7609" y="7788"/>
                  <a:pt x="7712" y="7772"/>
                  <a:pt x="7615" y="7888"/>
                </a:cubicBezTo>
                <a:cubicBezTo>
                  <a:pt x="7570" y="7933"/>
                  <a:pt x="7561" y="7950"/>
                  <a:pt x="7516" y="7938"/>
                </a:cubicBezTo>
              </a:path>
              <a:path w="4614" h="1539">
                <a:moveTo>
                  <a:pt x="6921" y="8483"/>
                </a:moveTo>
                <a:cubicBezTo>
                  <a:pt x="6834" y="8685"/>
                  <a:pt x="6913" y="8639"/>
                  <a:pt x="7094" y="8607"/>
                </a:cubicBezTo>
              </a:path>
              <a:path w="4614" h="1539">
                <a:moveTo>
                  <a:pt x="7169" y="8310"/>
                </a:moveTo>
                <a:cubicBezTo>
                  <a:pt x="7094" y="8469"/>
                  <a:pt x="7073" y="8617"/>
                  <a:pt x="7020" y="8781"/>
                </a:cubicBezTo>
                <a:cubicBezTo>
                  <a:pt x="7012" y="8797"/>
                  <a:pt x="7003" y="8814"/>
                  <a:pt x="6995" y="8830"/>
                </a:cubicBezTo>
              </a:path>
              <a:path w="4614" h="1539">
                <a:moveTo>
                  <a:pt x="7317" y="8706"/>
                </a:moveTo>
                <a:cubicBezTo>
                  <a:pt x="7317" y="8723"/>
                  <a:pt x="7317" y="8739"/>
                  <a:pt x="7317" y="8756"/>
                </a:cubicBezTo>
              </a:path>
              <a:path w="4614" h="1539">
                <a:moveTo>
                  <a:pt x="7565" y="8434"/>
                </a:moveTo>
                <a:cubicBezTo>
                  <a:pt x="7583" y="8486"/>
                  <a:pt x="7586" y="8396"/>
                  <a:pt x="7689" y="8359"/>
                </a:cubicBezTo>
                <a:cubicBezTo>
                  <a:pt x="7759" y="8334"/>
                  <a:pt x="7820" y="8335"/>
                  <a:pt x="7888" y="8310"/>
                </a:cubicBezTo>
                <a:cubicBezTo>
                  <a:pt x="7874" y="8466"/>
                  <a:pt x="7805" y="8585"/>
                  <a:pt x="7764" y="8731"/>
                </a:cubicBezTo>
                <a:cubicBezTo>
                  <a:pt x="7764" y="8748"/>
                  <a:pt x="7764" y="8764"/>
                  <a:pt x="7764" y="8781"/>
                </a:cubicBezTo>
              </a:path>
              <a:path w="4614" h="1539">
                <a:moveTo>
                  <a:pt x="4142" y="8855"/>
                </a:moveTo>
                <a:cubicBezTo>
                  <a:pt x="4187" y="8991"/>
                  <a:pt x="4183" y="9003"/>
                  <a:pt x="4118" y="9128"/>
                </a:cubicBezTo>
                <a:cubicBezTo>
                  <a:pt x="4075" y="9210"/>
                  <a:pt x="4001" y="9222"/>
                  <a:pt x="3919" y="9178"/>
                </a:cubicBezTo>
                <a:cubicBezTo>
                  <a:pt x="3911" y="9170"/>
                  <a:pt x="3902" y="9161"/>
                  <a:pt x="3894" y="9153"/>
                </a:cubicBezTo>
              </a:path>
              <a:path w="4614" h="1539">
                <a:moveTo>
                  <a:pt x="4118" y="8607"/>
                </a:moveTo>
                <a:lnTo>
                  <a:pt x="4118" y="8607"/>
                </a:lnTo>
              </a:path>
              <a:path w="4614" h="1539">
                <a:moveTo>
                  <a:pt x="5779" y="8756"/>
                </a:moveTo>
                <a:cubicBezTo>
                  <a:pt x="5895" y="8756"/>
                  <a:pt x="6011" y="8756"/>
                  <a:pt x="6127" y="8756"/>
                </a:cubicBezTo>
              </a:path>
              <a:path w="4614" h="1539">
                <a:moveTo>
                  <a:pt x="5904" y="8880"/>
                </a:moveTo>
                <a:cubicBezTo>
                  <a:pt x="5995" y="8880"/>
                  <a:pt x="6085" y="8880"/>
                  <a:pt x="6176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35040" y="4044960"/>
            <a:ext cx="90720" cy="115920"/>
          </a:xfrm>
          <a:custGeom>
            <a:avLst/>
            <a:gdLst/>
            <a:ahLst/>
            <a:rect l="l" t="t" r="r" b="b"/>
            <a:pathLst>
              <a:path w="249" h="323">
                <a:moveTo>
                  <a:pt x="4390" y="11534"/>
                </a:moveTo>
                <a:cubicBezTo>
                  <a:pt x="4390" y="11542"/>
                  <a:pt x="4390" y="11551"/>
                  <a:pt x="4390" y="11559"/>
                </a:cubicBezTo>
              </a:path>
              <a:path w="249" h="323">
                <a:moveTo>
                  <a:pt x="4266" y="11435"/>
                </a:moveTo>
                <a:cubicBezTo>
                  <a:pt x="4349" y="11435"/>
                  <a:pt x="4431" y="11435"/>
                  <a:pt x="4514" y="11435"/>
                </a:cubicBezTo>
              </a:path>
              <a:path w="249" h="323">
                <a:moveTo>
                  <a:pt x="4440" y="11237"/>
                </a:moveTo>
                <a:cubicBezTo>
                  <a:pt x="4440" y="11326"/>
                  <a:pt x="4432" y="11402"/>
                  <a:pt x="4415" y="11485"/>
                </a:cubicBezTo>
                <a:cubicBezTo>
                  <a:pt x="4415" y="11493"/>
                  <a:pt x="4415" y="11501"/>
                  <a:pt x="4415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1040" y="4037040"/>
            <a:ext cx="204840" cy="534960"/>
          </a:xfrm>
          <a:custGeom>
            <a:avLst/>
            <a:gdLst/>
            <a:ahLst/>
            <a:rect l="l" t="t" r="r" b="b"/>
            <a:pathLst>
              <a:path w="571" h="1489">
                <a:moveTo>
                  <a:pt x="4887" y="11286"/>
                </a:moveTo>
                <a:cubicBezTo>
                  <a:pt x="4877" y="11379"/>
                  <a:pt x="4867" y="11466"/>
                  <a:pt x="4862" y="11559"/>
                </a:cubicBezTo>
              </a:path>
              <a:path w="571" h="1489">
                <a:moveTo>
                  <a:pt x="5234" y="11212"/>
                </a:moveTo>
                <a:cubicBezTo>
                  <a:pt x="5096" y="11295"/>
                  <a:pt x="5131" y="11356"/>
                  <a:pt x="5234" y="11485"/>
                </a:cubicBezTo>
                <a:cubicBezTo>
                  <a:pt x="5275" y="11526"/>
                  <a:pt x="5283" y="11534"/>
                  <a:pt x="5308" y="11559"/>
                </a:cubicBezTo>
                <a:cubicBezTo>
                  <a:pt x="5263" y="11594"/>
                  <a:pt x="5116" y="11701"/>
                  <a:pt x="5135" y="11559"/>
                </a:cubicBezTo>
                <a:cubicBezTo>
                  <a:pt x="5149" y="11451"/>
                  <a:pt x="5248" y="11385"/>
                  <a:pt x="5283" y="11286"/>
                </a:cubicBezTo>
                <a:cubicBezTo>
                  <a:pt x="5283" y="11278"/>
                  <a:pt x="5283" y="11269"/>
                  <a:pt x="5283" y="11261"/>
                </a:cubicBezTo>
              </a:path>
              <a:path w="571" h="1489">
                <a:moveTo>
                  <a:pt x="5358" y="12005"/>
                </a:moveTo>
                <a:cubicBezTo>
                  <a:pt x="5284" y="12065"/>
                  <a:pt x="5275" y="12072"/>
                  <a:pt x="5234" y="12154"/>
                </a:cubicBezTo>
                <a:cubicBezTo>
                  <a:pt x="5253" y="12157"/>
                  <a:pt x="5531" y="12155"/>
                  <a:pt x="5432" y="12055"/>
                </a:cubicBezTo>
                <a:cubicBezTo>
                  <a:pt x="5407" y="12047"/>
                  <a:pt x="5383" y="12038"/>
                  <a:pt x="5358" y="12030"/>
                </a:cubicBezTo>
              </a:path>
              <a:path w="571" h="1489">
                <a:moveTo>
                  <a:pt x="4911" y="12378"/>
                </a:moveTo>
                <a:cubicBezTo>
                  <a:pt x="4911" y="12479"/>
                  <a:pt x="4914" y="12557"/>
                  <a:pt x="4887" y="12650"/>
                </a:cubicBezTo>
                <a:cubicBezTo>
                  <a:pt x="4900" y="12516"/>
                  <a:pt x="4934" y="12444"/>
                  <a:pt x="5060" y="12378"/>
                </a:cubicBezTo>
                <a:cubicBezTo>
                  <a:pt x="5164" y="12323"/>
                  <a:pt x="5223" y="12578"/>
                  <a:pt x="5234" y="12626"/>
                </a:cubicBezTo>
                <a:cubicBezTo>
                  <a:pt x="5234" y="12659"/>
                  <a:pt x="5234" y="12675"/>
                  <a:pt x="5234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16080" y="4106880"/>
            <a:ext cx="241200" cy="411120"/>
          </a:xfrm>
          <a:custGeom>
            <a:avLst/>
            <a:gdLst/>
            <a:ahLst/>
            <a:rect l="l" t="t" r="r" b="b"/>
            <a:pathLst>
              <a:path w="670" h="1142">
                <a:moveTo>
                  <a:pt x="6400" y="11410"/>
                </a:moveTo>
                <a:cubicBezTo>
                  <a:pt x="6400" y="11495"/>
                  <a:pt x="6406" y="11515"/>
                  <a:pt x="6375" y="11559"/>
                </a:cubicBezTo>
              </a:path>
              <a:path w="670" h="1142">
                <a:moveTo>
                  <a:pt x="6251" y="11435"/>
                </a:moveTo>
                <a:cubicBezTo>
                  <a:pt x="6351" y="11435"/>
                  <a:pt x="6448" y="11454"/>
                  <a:pt x="6548" y="11460"/>
                </a:cubicBezTo>
              </a:path>
              <a:path w="670" h="1142">
                <a:moveTo>
                  <a:pt x="5879" y="12378"/>
                </a:moveTo>
                <a:cubicBezTo>
                  <a:pt x="6001" y="12378"/>
                  <a:pt x="6107" y="12382"/>
                  <a:pt x="6226" y="12402"/>
                </a:cubicBezTo>
              </a:path>
              <a:path w="670" h="1142">
                <a:moveTo>
                  <a:pt x="5978" y="12551"/>
                </a:moveTo>
                <a:cubicBezTo>
                  <a:pt x="6070" y="12546"/>
                  <a:pt x="6159" y="12534"/>
                  <a:pt x="6251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90840" y="4027320"/>
            <a:ext cx="358560" cy="527040"/>
          </a:xfrm>
          <a:custGeom>
            <a:avLst/>
            <a:gdLst/>
            <a:ahLst/>
            <a:rect l="l" t="t" r="r" b="b"/>
            <a:pathLst>
              <a:path w="993" h="1464">
                <a:moveTo>
                  <a:pt x="6945" y="11187"/>
                </a:moveTo>
                <a:cubicBezTo>
                  <a:pt x="6987" y="11325"/>
                  <a:pt x="6951" y="11463"/>
                  <a:pt x="6945" y="11609"/>
                </a:cubicBezTo>
                <a:cubicBezTo>
                  <a:pt x="6945" y="11617"/>
                  <a:pt x="6945" y="11625"/>
                  <a:pt x="6945" y="11633"/>
                </a:cubicBezTo>
              </a:path>
              <a:path w="993" h="1464">
                <a:moveTo>
                  <a:pt x="7392" y="11212"/>
                </a:moveTo>
                <a:cubicBezTo>
                  <a:pt x="7293" y="11204"/>
                  <a:pt x="7302" y="11192"/>
                  <a:pt x="7218" y="11261"/>
                </a:cubicBezTo>
                <a:cubicBezTo>
                  <a:pt x="7278" y="11381"/>
                  <a:pt x="7394" y="11454"/>
                  <a:pt x="7441" y="11584"/>
                </a:cubicBezTo>
                <a:cubicBezTo>
                  <a:pt x="7441" y="11600"/>
                  <a:pt x="7441" y="11617"/>
                  <a:pt x="7441" y="11633"/>
                </a:cubicBezTo>
                <a:cubicBezTo>
                  <a:pt x="7328" y="11685"/>
                  <a:pt x="7266" y="11677"/>
                  <a:pt x="7293" y="11534"/>
                </a:cubicBezTo>
                <a:cubicBezTo>
                  <a:pt x="7314" y="11423"/>
                  <a:pt x="7380" y="11373"/>
                  <a:pt x="7441" y="11286"/>
                </a:cubicBezTo>
                <a:cubicBezTo>
                  <a:pt x="7458" y="11261"/>
                  <a:pt x="7474" y="11237"/>
                  <a:pt x="7491" y="11212"/>
                </a:cubicBezTo>
              </a:path>
              <a:path w="993" h="1464">
                <a:moveTo>
                  <a:pt x="7045" y="12154"/>
                </a:moveTo>
                <a:cubicBezTo>
                  <a:pt x="7011" y="12279"/>
                  <a:pt x="6993" y="12399"/>
                  <a:pt x="6945" y="12526"/>
                </a:cubicBezTo>
                <a:cubicBezTo>
                  <a:pt x="6919" y="12580"/>
                  <a:pt x="6914" y="12601"/>
                  <a:pt x="6970" y="12626"/>
                </a:cubicBezTo>
                <a:cubicBezTo>
                  <a:pt x="7123" y="12636"/>
                  <a:pt x="7195" y="12603"/>
                  <a:pt x="7293" y="12477"/>
                </a:cubicBezTo>
                <a:cubicBezTo>
                  <a:pt x="7280" y="12401"/>
                  <a:pt x="7195" y="12401"/>
                  <a:pt x="7119" y="12452"/>
                </a:cubicBezTo>
                <a:cubicBezTo>
                  <a:pt x="7058" y="12513"/>
                  <a:pt x="7033" y="12520"/>
                  <a:pt x="7045" y="12576"/>
                </a:cubicBezTo>
              </a:path>
              <a:path w="993" h="1464">
                <a:moveTo>
                  <a:pt x="7689" y="12179"/>
                </a:moveTo>
                <a:cubicBezTo>
                  <a:pt x="7563" y="12259"/>
                  <a:pt x="7522" y="12362"/>
                  <a:pt x="7541" y="12526"/>
                </a:cubicBezTo>
                <a:cubicBezTo>
                  <a:pt x="7563" y="12593"/>
                  <a:pt x="7567" y="12611"/>
                  <a:pt x="7590" y="12650"/>
                </a:cubicBezTo>
                <a:cubicBezTo>
                  <a:pt x="7739" y="12629"/>
                  <a:pt x="7894" y="12587"/>
                  <a:pt x="7913" y="12402"/>
                </a:cubicBezTo>
                <a:cubicBezTo>
                  <a:pt x="7925" y="12287"/>
                  <a:pt x="7862" y="12248"/>
                  <a:pt x="7789" y="122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70200" y="3759120"/>
            <a:ext cx="1071720" cy="233280"/>
          </a:xfrm>
          <a:custGeom>
            <a:avLst/>
            <a:gdLst/>
            <a:ahLst/>
            <a:rect l="l" t="t" r="r" b="b"/>
            <a:pathLst>
              <a:path w="2977" h="646">
                <a:moveTo>
                  <a:pt x="10368" y="10443"/>
                </a:moveTo>
                <a:cubicBezTo>
                  <a:pt x="10317" y="10607"/>
                  <a:pt x="10224" y="10741"/>
                  <a:pt x="10195" y="10914"/>
                </a:cubicBezTo>
                <a:cubicBezTo>
                  <a:pt x="10348" y="10971"/>
                  <a:pt x="10508" y="10992"/>
                  <a:pt x="10641" y="10864"/>
                </a:cubicBezTo>
                <a:cubicBezTo>
                  <a:pt x="10649" y="10839"/>
                  <a:pt x="10658" y="10815"/>
                  <a:pt x="10666" y="10790"/>
                </a:cubicBezTo>
                <a:cubicBezTo>
                  <a:pt x="10499" y="10762"/>
                  <a:pt x="10462" y="10816"/>
                  <a:pt x="10393" y="10964"/>
                </a:cubicBezTo>
              </a:path>
              <a:path w="2977" h="646">
                <a:moveTo>
                  <a:pt x="11013" y="10542"/>
                </a:moveTo>
                <a:cubicBezTo>
                  <a:pt x="10898" y="10667"/>
                  <a:pt x="10810" y="10739"/>
                  <a:pt x="10864" y="10889"/>
                </a:cubicBezTo>
                <a:cubicBezTo>
                  <a:pt x="11048" y="10928"/>
                  <a:pt x="11306" y="10916"/>
                  <a:pt x="11361" y="10666"/>
                </a:cubicBezTo>
                <a:cubicBezTo>
                  <a:pt x="11392" y="10524"/>
                  <a:pt x="11279" y="10506"/>
                  <a:pt x="11187" y="10468"/>
                </a:cubicBezTo>
              </a:path>
              <a:path w="2977" h="646">
                <a:moveTo>
                  <a:pt x="11633" y="10666"/>
                </a:moveTo>
                <a:cubicBezTo>
                  <a:pt x="11741" y="10693"/>
                  <a:pt x="11782" y="10700"/>
                  <a:pt x="11857" y="10666"/>
                </a:cubicBezTo>
              </a:path>
              <a:path w="2977" h="646">
                <a:moveTo>
                  <a:pt x="11981" y="10468"/>
                </a:moveTo>
                <a:cubicBezTo>
                  <a:pt x="11965" y="10624"/>
                  <a:pt x="11910" y="10767"/>
                  <a:pt x="11857" y="10914"/>
                </a:cubicBezTo>
              </a:path>
              <a:path w="2977" h="646">
                <a:moveTo>
                  <a:pt x="12502" y="10492"/>
                </a:moveTo>
                <a:cubicBezTo>
                  <a:pt x="12379" y="10530"/>
                  <a:pt x="12327" y="10558"/>
                  <a:pt x="12229" y="10641"/>
                </a:cubicBezTo>
                <a:cubicBezTo>
                  <a:pt x="12280" y="10821"/>
                  <a:pt x="12455" y="10892"/>
                  <a:pt x="12526" y="11063"/>
                </a:cubicBezTo>
                <a:cubicBezTo>
                  <a:pt x="12498" y="11092"/>
                  <a:pt x="12485" y="11100"/>
                  <a:pt x="12452" y="11088"/>
                </a:cubicBezTo>
                <a:cubicBezTo>
                  <a:pt x="12387" y="10906"/>
                  <a:pt x="12465" y="10785"/>
                  <a:pt x="12576" y="10616"/>
                </a:cubicBezTo>
                <a:cubicBezTo>
                  <a:pt x="12584" y="10608"/>
                  <a:pt x="12593" y="10600"/>
                  <a:pt x="12601" y="10592"/>
                </a:cubicBezTo>
              </a:path>
              <a:path w="2977" h="646">
                <a:moveTo>
                  <a:pt x="12874" y="10716"/>
                </a:moveTo>
                <a:cubicBezTo>
                  <a:pt x="12976" y="10694"/>
                  <a:pt x="13065" y="10691"/>
                  <a:pt x="13171" y="10691"/>
                </a:cubicBezTo>
              </a:path>
              <a:path w="2977" h="646">
                <a:moveTo>
                  <a:pt x="12923" y="10914"/>
                </a:moveTo>
                <a:lnTo>
                  <a:pt x="12923" y="10914"/>
                </a:lnTo>
              </a:path>
              <a:path w="2977" h="646">
                <a:moveTo>
                  <a:pt x="12948" y="10914"/>
                </a:moveTo>
                <a:cubicBezTo>
                  <a:pt x="13042" y="10945"/>
                  <a:pt x="13068" y="10935"/>
                  <a:pt x="13171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19760" y="3786120"/>
            <a:ext cx="430200" cy="241200"/>
          </a:xfrm>
          <a:custGeom>
            <a:avLst/>
            <a:gdLst/>
            <a:ahLst/>
            <a:rect l="l" t="t" r="r" b="b"/>
            <a:pathLst>
              <a:path w="1192" h="671">
                <a:moveTo>
                  <a:pt x="13717" y="10592"/>
                </a:moveTo>
                <a:cubicBezTo>
                  <a:pt x="13709" y="10671"/>
                  <a:pt x="13690" y="10739"/>
                  <a:pt x="13667" y="10815"/>
                </a:cubicBezTo>
                <a:cubicBezTo>
                  <a:pt x="13796" y="10866"/>
                  <a:pt x="13842" y="10882"/>
                  <a:pt x="13940" y="10864"/>
                </a:cubicBezTo>
              </a:path>
              <a:path w="1192" h="671">
                <a:moveTo>
                  <a:pt x="14114" y="10517"/>
                </a:moveTo>
                <a:cubicBezTo>
                  <a:pt x="14010" y="10731"/>
                  <a:pt x="13924" y="10970"/>
                  <a:pt x="13791" y="11162"/>
                </a:cubicBezTo>
              </a:path>
              <a:path w="1192" h="671">
                <a:moveTo>
                  <a:pt x="14511" y="10641"/>
                </a:moveTo>
                <a:cubicBezTo>
                  <a:pt x="14628" y="10616"/>
                  <a:pt x="14660" y="10612"/>
                  <a:pt x="14759" y="10666"/>
                </a:cubicBezTo>
                <a:cubicBezTo>
                  <a:pt x="14759" y="10878"/>
                  <a:pt x="14576" y="10908"/>
                  <a:pt x="14412" y="11038"/>
                </a:cubicBezTo>
                <a:cubicBezTo>
                  <a:pt x="14350" y="11099"/>
                  <a:pt x="14325" y="11105"/>
                  <a:pt x="14337" y="11162"/>
                </a:cubicBezTo>
                <a:cubicBezTo>
                  <a:pt x="14517" y="11170"/>
                  <a:pt x="14678" y="11173"/>
                  <a:pt x="14858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43720" y="3875040"/>
            <a:ext cx="339480" cy="152280"/>
          </a:xfrm>
          <a:custGeom>
            <a:avLst/>
            <a:gdLst/>
            <a:ahLst/>
            <a:rect l="l" t="t" r="r" b="b"/>
            <a:pathLst>
              <a:path w="943" h="423">
                <a:moveTo>
                  <a:pt x="15677" y="10964"/>
                </a:moveTo>
                <a:cubicBezTo>
                  <a:pt x="15712" y="11039"/>
                  <a:pt x="15743" y="11112"/>
                  <a:pt x="15776" y="11187"/>
                </a:cubicBezTo>
                <a:cubicBezTo>
                  <a:pt x="15959" y="11039"/>
                  <a:pt x="16126" y="10860"/>
                  <a:pt x="16371" y="10790"/>
                </a:cubicBezTo>
                <a:cubicBezTo>
                  <a:pt x="16454" y="10782"/>
                  <a:pt x="16536" y="10773"/>
                  <a:pt x="16619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57200" y="4268880"/>
            <a:ext cx="1608120" cy="27000"/>
          </a:xfrm>
          <a:custGeom>
            <a:avLst/>
            <a:gdLst/>
            <a:ahLst/>
            <a:rect l="l" t="t" r="r" b="b"/>
            <a:pathLst>
              <a:path w="4466" h="75">
                <a:moveTo>
                  <a:pt x="3770" y="11857"/>
                </a:moveTo>
                <a:cubicBezTo>
                  <a:pt x="4045" y="11857"/>
                  <a:pt x="4316" y="11868"/>
                  <a:pt x="4589" y="11881"/>
                </a:cubicBezTo>
                <a:cubicBezTo>
                  <a:pt x="4798" y="11891"/>
                  <a:pt x="5027" y="11939"/>
                  <a:pt x="5234" y="11931"/>
                </a:cubicBezTo>
                <a:cubicBezTo>
                  <a:pt x="5439" y="11924"/>
                  <a:pt x="5646" y="11947"/>
                  <a:pt x="5854" y="11931"/>
                </a:cubicBezTo>
                <a:cubicBezTo>
                  <a:pt x="6140" y="11909"/>
                  <a:pt x="6411" y="11942"/>
                  <a:pt x="6697" y="11931"/>
                </a:cubicBezTo>
                <a:cubicBezTo>
                  <a:pt x="7054" y="11917"/>
                  <a:pt x="7405" y="11859"/>
                  <a:pt x="7764" y="11881"/>
                </a:cubicBezTo>
                <a:cubicBezTo>
                  <a:pt x="7921" y="11891"/>
                  <a:pt x="8084" y="11902"/>
                  <a:pt x="8235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ressions, Equations and Integer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tions 12.4: Solving Multiplication Equatio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bjective: Determine the unknown in a linear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Solving Multiplicat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o solve a multiplication equation divide each side by the number that the variable is multiplied b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Since the variable was multiplied by a number, you must divide (inverse operation) by the same number to get back to the variable by itself.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494160" y="4876920"/>
            <a:ext cx="16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n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56520" y="60199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vide both sides by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38800" y="5303880"/>
            <a:ext cx="320400" cy="268200"/>
          </a:xfrm>
          <a:custGeom>
            <a:avLst/>
            <a:gdLst/>
            <a:ahLst/>
            <a:rect l="l" t="t" r="r" b="b"/>
            <a:pathLst>
              <a:path w="894" h="745">
                <a:moveTo>
                  <a:pt x="12328" y="14734"/>
                </a:moveTo>
                <a:cubicBezTo>
                  <a:pt x="12626" y="14734"/>
                  <a:pt x="12923" y="14734"/>
                  <a:pt x="13221" y="14734"/>
                </a:cubicBezTo>
              </a:path>
              <a:path w="894" h="745">
                <a:moveTo>
                  <a:pt x="12973" y="14957"/>
                </a:moveTo>
                <a:cubicBezTo>
                  <a:pt x="12960" y="14919"/>
                  <a:pt x="12943" y="14932"/>
                  <a:pt x="12898" y="14932"/>
                </a:cubicBezTo>
                <a:cubicBezTo>
                  <a:pt x="12824" y="14932"/>
                  <a:pt x="12749" y="14932"/>
                  <a:pt x="12675" y="14932"/>
                </a:cubicBezTo>
                <a:cubicBezTo>
                  <a:pt x="12675" y="14998"/>
                  <a:pt x="12675" y="15065"/>
                  <a:pt x="12675" y="15131"/>
                </a:cubicBezTo>
                <a:cubicBezTo>
                  <a:pt x="12791" y="15131"/>
                  <a:pt x="12906" y="15131"/>
                  <a:pt x="13022" y="15131"/>
                </a:cubicBezTo>
                <a:cubicBezTo>
                  <a:pt x="13022" y="15211"/>
                  <a:pt x="13047" y="15393"/>
                  <a:pt x="12998" y="15429"/>
                </a:cubicBezTo>
                <a:cubicBezTo>
                  <a:pt x="12965" y="15453"/>
                  <a:pt x="12952" y="15474"/>
                  <a:pt x="12923" y="15478"/>
                </a:cubicBezTo>
                <a:cubicBezTo>
                  <a:pt x="12847" y="15487"/>
                  <a:pt x="12764" y="15473"/>
                  <a:pt x="12725" y="15453"/>
                </a:cubicBezTo>
                <a:cubicBezTo>
                  <a:pt x="12699" y="15440"/>
                  <a:pt x="12679" y="15439"/>
                  <a:pt x="12675" y="15404"/>
                </a:cubicBezTo>
                <a:cubicBezTo>
                  <a:pt x="12672" y="15380"/>
                  <a:pt x="12675" y="15353"/>
                  <a:pt x="12675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05160" y="5776920"/>
            <a:ext cx="430200" cy="206280"/>
          </a:xfrm>
          <a:custGeom>
            <a:avLst/>
            <a:gdLst/>
            <a:ahLst/>
            <a:rect l="l" t="t" r="r" b="b"/>
            <a:pathLst>
              <a:path w="1192" h="571">
                <a:moveTo>
                  <a:pt x="12626" y="16098"/>
                </a:moveTo>
                <a:cubicBezTo>
                  <a:pt x="12662" y="16111"/>
                  <a:pt x="12650" y="16129"/>
                  <a:pt x="12650" y="16173"/>
                </a:cubicBezTo>
                <a:cubicBezTo>
                  <a:pt x="12650" y="16229"/>
                  <a:pt x="12636" y="16250"/>
                  <a:pt x="12626" y="16272"/>
                </a:cubicBezTo>
                <a:cubicBezTo>
                  <a:pt x="12610" y="16305"/>
                  <a:pt x="12610" y="16319"/>
                  <a:pt x="12601" y="16346"/>
                </a:cubicBezTo>
                <a:cubicBezTo>
                  <a:pt x="12684" y="16346"/>
                  <a:pt x="12766" y="16346"/>
                  <a:pt x="12849" y="16346"/>
                </a:cubicBezTo>
                <a:cubicBezTo>
                  <a:pt x="12849" y="16247"/>
                  <a:pt x="12849" y="16148"/>
                  <a:pt x="12849" y="16049"/>
                </a:cubicBezTo>
                <a:cubicBezTo>
                  <a:pt x="12886" y="16073"/>
                  <a:pt x="12874" y="16116"/>
                  <a:pt x="12874" y="16173"/>
                </a:cubicBezTo>
                <a:cubicBezTo>
                  <a:pt x="12874" y="16322"/>
                  <a:pt x="12874" y="16470"/>
                  <a:pt x="12874" y="16619"/>
                </a:cubicBezTo>
              </a:path>
              <a:path w="1192" h="571">
                <a:moveTo>
                  <a:pt x="11683" y="16272"/>
                </a:moveTo>
                <a:cubicBezTo>
                  <a:pt x="11683" y="16264"/>
                  <a:pt x="11683" y="16255"/>
                  <a:pt x="11683" y="16247"/>
                </a:cubicBezTo>
                <a:cubicBezTo>
                  <a:pt x="11774" y="16247"/>
                  <a:pt x="11865" y="16247"/>
                  <a:pt x="11956" y="16247"/>
                </a:cubicBezTo>
              </a:path>
              <a:path w="1192" h="571">
                <a:moveTo>
                  <a:pt x="11807" y="16421"/>
                </a:moveTo>
                <a:cubicBezTo>
                  <a:pt x="11881" y="16421"/>
                  <a:pt x="11956" y="16421"/>
                  <a:pt x="12030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8920" y="4973760"/>
            <a:ext cx="428400" cy="1019160"/>
          </a:xfrm>
          <a:custGeom>
            <a:avLst/>
            <a:gdLst/>
            <a:ahLst/>
            <a:rect l="l" t="t" r="r" b="b"/>
            <a:pathLst>
              <a:path w="1192" h="2829">
                <a:moveTo>
                  <a:pt x="9996" y="14734"/>
                </a:moveTo>
                <a:cubicBezTo>
                  <a:pt x="10368" y="14734"/>
                  <a:pt x="10740" y="14734"/>
                  <a:pt x="11112" y="14734"/>
                </a:cubicBezTo>
              </a:path>
              <a:path w="1192" h="2829">
                <a:moveTo>
                  <a:pt x="10716" y="14957"/>
                </a:moveTo>
                <a:cubicBezTo>
                  <a:pt x="10633" y="14957"/>
                  <a:pt x="10551" y="14957"/>
                  <a:pt x="10468" y="14957"/>
                </a:cubicBezTo>
                <a:cubicBezTo>
                  <a:pt x="10468" y="15015"/>
                  <a:pt x="10468" y="15073"/>
                  <a:pt x="10468" y="15131"/>
                </a:cubicBezTo>
                <a:cubicBezTo>
                  <a:pt x="10542" y="15131"/>
                  <a:pt x="10617" y="15131"/>
                  <a:pt x="10691" y="15131"/>
                </a:cubicBezTo>
                <a:cubicBezTo>
                  <a:pt x="10691" y="15222"/>
                  <a:pt x="10691" y="15313"/>
                  <a:pt x="10691" y="15404"/>
                </a:cubicBezTo>
                <a:cubicBezTo>
                  <a:pt x="10635" y="15404"/>
                  <a:pt x="10424" y="15426"/>
                  <a:pt x="10418" y="15379"/>
                </a:cubicBezTo>
                <a:cubicBezTo>
                  <a:pt x="10418" y="15354"/>
                  <a:pt x="10418" y="15346"/>
                  <a:pt x="10418" y="15329"/>
                </a:cubicBezTo>
              </a:path>
              <a:path w="1192" h="2829">
                <a:moveTo>
                  <a:pt x="10269" y="13816"/>
                </a:moveTo>
                <a:cubicBezTo>
                  <a:pt x="10269" y="14279"/>
                  <a:pt x="10269" y="14742"/>
                  <a:pt x="10269" y="15205"/>
                </a:cubicBezTo>
                <a:cubicBezTo>
                  <a:pt x="10307" y="15218"/>
                  <a:pt x="10294" y="15235"/>
                  <a:pt x="10294" y="15280"/>
                </a:cubicBezTo>
                <a:cubicBezTo>
                  <a:pt x="10294" y="15304"/>
                  <a:pt x="10294" y="15312"/>
                  <a:pt x="10319" y="15304"/>
                </a:cubicBezTo>
              </a:path>
              <a:path w="1192" h="2829">
                <a:moveTo>
                  <a:pt x="10616" y="16024"/>
                </a:moveTo>
                <a:cubicBezTo>
                  <a:pt x="10616" y="16231"/>
                  <a:pt x="10616" y="16437"/>
                  <a:pt x="10616" y="16644"/>
                </a:cubicBezTo>
              </a:path>
              <a:path w="1192" h="2829">
                <a:moveTo>
                  <a:pt x="10889" y="16297"/>
                </a:moveTo>
                <a:cubicBezTo>
                  <a:pt x="10889" y="16380"/>
                  <a:pt x="10889" y="16462"/>
                  <a:pt x="10889" y="16545"/>
                </a:cubicBezTo>
                <a:cubicBezTo>
                  <a:pt x="10889" y="16615"/>
                  <a:pt x="10889" y="16462"/>
                  <a:pt x="10889" y="16446"/>
                </a:cubicBezTo>
                <a:cubicBezTo>
                  <a:pt x="10889" y="16395"/>
                  <a:pt x="10900" y="16387"/>
                  <a:pt x="10914" y="16346"/>
                </a:cubicBezTo>
                <a:cubicBezTo>
                  <a:pt x="10924" y="16316"/>
                  <a:pt x="10916" y="16283"/>
                  <a:pt x="10939" y="16272"/>
                </a:cubicBezTo>
                <a:cubicBezTo>
                  <a:pt x="10972" y="16256"/>
                  <a:pt x="10964" y="16247"/>
                  <a:pt x="11013" y="16247"/>
                </a:cubicBezTo>
                <a:cubicBezTo>
                  <a:pt x="11071" y="16247"/>
                  <a:pt x="11129" y="16247"/>
                  <a:pt x="11187" y="16247"/>
                </a:cubicBezTo>
                <a:cubicBezTo>
                  <a:pt x="11187" y="16363"/>
                  <a:pt x="11187" y="16478"/>
                  <a:pt x="11187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70320" y="5813280"/>
            <a:ext cx="187560" cy="18756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14362" y="16247"/>
                </a:moveTo>
                <a:cubicBezTo>
                  <a:pt x="14362" y="16388"/>
                  <a:pt x="14362" y="16528"/>
                  <a:pt x="14362" y="16669"/>
                </a:cubicBezTo>
                <a:cubicBezTo>
                  <a:pt x="14362" y="16556"/>
                  <a:pt x="14361" y="16519"/>
                  <a:pt x="14412" y="16421"/>
                </a:cubicBezTo>
                <a:cubicBezTo>
                  <a:pt x="14446" y="16356"/>
                  <a:pt x="14434" y="16304"/>
                  <a:pt x="14486" y="16247"/>
                </a:cubicBezTo>
                <a:cubicBezTo>
                  <a:pt x="14509" y="16222"/>
                  <a:pt x="14538" y="16200"/>
                  <a:pt x="14560" y="16197"/>
                </a:cubicBezTo>
                <a:cubicBezTo>
                  <a:pt x="14604" y="16191"/>
                  <a:pt x="14619" y="16156"/>
                  <a:pt x="14635" y="16148"/>
                </a:cubicBezTo>
                <a:cubicBezTo>
                  <a:pt x="14686" y="16123"/>
                  <a:pt x="14816" y="16151"/>
                  <a:pt x="14833" y="16173"/>
                </a:cubicBezTo>
                <a:cubicBezTo>
                  <a:pt x="14869" y="16220"/>
                  <a:pt x="14883" y="16179"/>
                  <a:pt x="14883" y="16247"/>
                </a:cubicBezTo>
                <a:cubicBezTo>
                  <a:pt x="14883" y="16379"/>
                  <a:pt x="14883" y="16512"/>
                  <a:pt x="14883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3160" y="5724360"/>
            <a:ext cx="295200" cy="258840"/>
          </a:xfrm>
          <a:custGeom>
            <a:avLst/>
            <a:gdLst/>
            <a:ahLst/>
            <a:rect l="l" t="t" r="r" b="b"/>
            <a:pathLst>
              <a:path w="820" h="720">
                <a:moveTo>
                  <a:pt x="15230" y="16247"/>
                </a:moveTo>
                <a:cubicBezTo>
                  <a:pt x="15346" y="16247"/>
                  <a:pt x="15461" y="16247"/>
                  <a:pt x="15577" y="16247"/>
                </a:cubicBezTo>
              </a:path>
              <a:path w="820" h="720">
                <a:moveTo>
                  <a:pt x="15230" y="16470"/>
                </a:moveTo>
                <a:cubicBezTo>
                  <a:pt x="15230" y="16478"/>
                  <a:pt x="15230" y="16487"/>
                  <a:pt x="15230" y="16495"/>
                </a:cubicBezTo>
                <a:cubicBezTo>
                  <a:pt x="15354" y="16495"/>
                  <a:pt x="15478" y="16495"/>
                  <a:pt x="15602" y="16495"/>
                </a:cubicBezTo>
              </a:path>
              <a:path w="820" h="720">
                <a:moveTo>
                  <a:pt x="15751" y="15974"/>
                </a:moveTo>
                <a:cubicBezTo>
                  <a:pt x="15751" y="16065"/>
                  <a:pt x="15751" y="16156"/>
                  <a:pt x="15751" y="16247"/>
                </a:cubicBezTo>
                <a:cubicBezTo>
                  <a:pt x="15850" y="16247"/>
                  <a:pt x="15950" y="16247"/>
                  <a:pt x="16049" y="16247"/>
                </a:cubicBezTo>
                <a:cubicBezTo>
                  <a:pt x="16049" y="16160"/>
                  <a:pt x="16049" y="15924"/>
                  <a:pt x="16049" y="15925"/>
                </a:cubicBezTo>
                <a:cubicBezTo>
                  <a:pt x="16049" y="16156"/>
                  <a:pt x="16049" y="16388"/>
                  <a:pt x="16049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3120" y="4643280"/>
            <a:ext cx="1446120" cy="536760"/>
          </a:xfrm>
          <a:custGeom>
            <a:avLst/>
            <a:gdLst/>
            <a:ahLst/>
            <a:rect l="l" t="t" r="r" b="b"/>
            <a:pathLst>
              <a:path w="4020" h="1490">
                <a:moveTo>
                  <a:pt x="17438" y="13370"/>
                </a:moveTo>
                <a:cubicBezTo>
                  <a:pt x="17413" y="13370"/>
                  <a:pt x="17388" y="13370"/>
                  <a:pt x="17363" y="13370"/>
                </a:cubicBezTo>
                <a:cubicBezTo>
                  <a:pt x="17363" y="13415"/>
                  <a:pt x="17341" y="13429"/>
                  <a:pt x="17338" y="13469"/>
                </a:cubicBezTo>
                <a:cubicBezTo>
                  <a:pt x="17333" y="13533"/>
                  <a:pt x="17326" y="13612"/>
                  <a:pt x="17289" y="13667"/>
                </a:cubicBezTo>
                <a:cubicBezTo>
                  <a:pt x="17265" y="13702"/>
                  <a:pt x="17244" y="13749"/>
                  <a:pt x="17239" y="13791"/>
                </a:cubicBezTo>
                <a:cubicBezTo>
                  <a:pt x="17234" y="13834"/>
                  <a:pt x="17227" y="13801"/>
                  <a:pt x="17214" y="13841"/>
                </a:cubicBezTo>
                <a:cubicBezTo>
                  <a:pt x="17288" y="13841"/>
                  <a:pt x="17380" y="13859"/>
                  <a:pt x="17438" y="13816"/>
                </a:cubicBezTo>
                <a:cubicBezTo>
                  <a:pt x="17482" y="13784"/>
                  <a:pt x="17523" y="13756"/>
                  <a:pt x="17562" y="13717"/>
                </a:cubicBezTo>
                <a:cubicBezTo>
                  <a:pt x="17599" y="13680"/>
                  <a:pt x="17634" y="13692"/>
                  <a:pt x="17686" y="13692"/>
                </a:cubicBezTo>
                <a:cubicBezTo>
                  <a:pt x="17711" y="13692"/>
                  <a:pt x="17719" y="13692"/>
                  <a:pt x="17735" y="13692"/>
                </a:cubicBezTo>
                <a:cubicBezTo>
                  <a:pt x="17735" y="13766"/>
                  <a:pt x="17765" y="13936"/>
                  <a:pt x="17711" y="13990"/>
                </a:cubicBezTo>
                <a:cubicBezTo>
                  <a:pt x="17674" y="14028"/>
                  <a:pt x="17623" y="14119"/>
                  <a:pt x="17587" y="14139"/>
                </a:cubicBezTo>
                <a:cubicBezTo>
                  <a:pt x="17548" y="14161"/>
                  <a:pt x="17511" y="14163"/>
                  <a:pt x="17462" y="14163"/>
                </a:cubicBezTo>
                <a:cubicBezTo>
                  <a:pt x="17380" y="14163"/>
                  <a:pt x="17204" y="14190"/>
                  <a:pt x="17165" y="14139"/>
                </a:cubicBezTo>
                <a:cubicBezTo>
                  <a:pt x="17140" y="14106"/>
                  <a:pt x="17119" y="14094"/>
                  <a:pt x="17115" y="14064"/>
                </a:cubicBezTo>
                <a:cubicBezTo>
                  <a:pt x="17115" y="14039"/>
                  <a:pt x="17115" y="14031"/>
                  <a:pt x="17090" y="14039"/>
                </a:cubicBezTo>
              </a:path>
              <a:path w="4020" h="1490">
                <a:moveTo>
                  <a:pt x="17413" y="13444"/>
                </a:moveTo>
                <a:cubicBezTo>
                  <a:pt x="17413" y="13419"/>
                  <a:pt x="17413" y="13411"/>
                  <a:pt x="17413" y="13395"/>
                </a:cubicBezTo>
                <a:cubicBezTo>
                  <a:pt x="17476" y="13395"/>
                  <a:pt x="17520" y="13372"/>
                  <a:pt x="17587" y="13370"/>
                </a:cubicBezTo>
                <a:cubicBezTo>
                  <a:pt x="17785" y="13364"/>
                  <a:pt x="17984" y="13370"/>
                  <a:pt x="18182" y="13370"/>
                </a:cubicBezTo>
              </a:path>
              <a:path w="4020" h="1490">
                <a:moveTo>
                  <a:pt x="18430" y="12973"/>
                </a:moveTo>
                <a:cubicBezTo>
                  <a:pt x="18375" y="13041"/>
                  <a:pt x="18341" y="13117"/>
                  <a:pt x="18306" y="13196"/>
                </a:cubicBezTo>
                <a:cubicBezTo>
                  <a:pt x="18285" y="13243"/>
                  <a:pt x="18240" y="13321"/>
                  <a:pt x="18231" y="13370"/>
                </a:cubicBezTo>
                <a:cubicBezTo>
                  <a:pt x="18219" y="13435"/>
                  <a:pt x="18210" y="13478"/>
                  <a:pt x="18207" y="13543"/>
                </a:cubicBezTo>
                <a:cubicBezTo>
                  <a:pt x="18200" y="13696"/>
                  <a:pt x="18170" y="13950"/>
                  <a:pt x="18231" y="14089"/>
                </a:cubicBezTo>
                <a:cubicBezTo>
                  <a:pt x="18266" y="14168"/>
                  <a:pt x="18320" y="14188"/>
                  <a:pt x="18380" y="14238"/>
                </a:cubicBezTo>
                <a:cubicBezTo>
                  <a:pt x="18405" y="14259"/>
                  <a:pt x="18448" y="14316"/>
                  <a:pt x="18479" y="14337"/>
                </a:cubicBezTo>
                <a:cubicBezTo>
                  <a:pt x="18510" y="14358"/>
                  <a:pt x="18535" y="14368"/>
                  <a:pt x="18554" y="14387"/>
                </a:cubicBezTo>
              </a:path>
              <a:path w="4020" h="1490">
                <a:moveTo>
                  <a:pt x="18554" y="13469"/>
                </a:moveTo>
                <a:cubicBezTo>
                  <a:pt x="18543" y="13525"/>
                  <a:pt x="18529" y="13559"/>
                  <a:pt x="18529" y="13618"/>
                </a:cubicBezTo>
                <a:cubicBezTo>
                  <a:pt x="18529" y="13659"/>
                  <a:pt x="18529" y="13701"/>
                  <a:pt x="18529" y="13742"/>
                </a:cubicBezTo>
                <a:cubicBezTo>
                  <a:pt x="18610" y="13742"/>
                  <a:pt x="18683" y="13740"/>
                  <a:pt x="18728" y="13717"/>
                </a:cubicBezTo>
                <a:cubicBezTo>
                  <a:pt x="18761" y="13700"/>
                  <a:pt x="18752" y="13690"/>
                  <a:pt x="18752" y="13643"/>
                </a:cubicBezTo>
                <a:cubicBezTo>
                  <a:pt x="18752" y="13560"/>
                  <a:pt x="18752" y="13478"/>
                  <a:pt x="18752" y="13395"/>
                </a:cubicBezTo>
                <a:cubicBezTo>
                  <a:pt x="18793" y="13422"/>
                  <a:pt x="18777" y="13504"/>
                  <a:pt x="18777" y="13568"/>
                </a:cubicBezTo>
                <a:cubicBezTo>
                  <a:pt x="18777" y="13725"/>
                  <a:pt x="18777" y="13882"/>
                  <a:pt x="18777" y="14039"/>
                </a:cubicBezTo>
              </a:path>
              <a:path w="4020" h="1490">
                <a:moveTo>
                  <a:pt x="18951" y="12898"/>
                </a:moveTo>
                <a:cubicBezTo>
                  <a:pt x="18951" y="12923"/>
                  <a:pt x="18951" y="12931"/>
                  <a:pt x="18951" y="12948"/>
                </a:cubicBezTo>
                <a:cubicBezTo>
                  <a:pt x="18965" y="12963"/>
                  <a:pt x="18999" y="13025"/>
                  <a:pt x="19025" y="13047"/>
                </a:cubicBezTo>
                <a:cubicBezTo>
                  <a:pt x="19073" y="13088"/>
                  <a:pt x="19156" y="13127"/>
                  <a:pt x="19174" y="13196"/>
                </a:cubicBezTo>
                <a:cubicBezTo>
                  <a:pt x="19183" y="13231"/>
                  <a:pt x="19193" y="13262"/>
                  <a:pt x="19199" y="13295"/>
                </a:cubicBezTo>
                <a:cubicBezTo>
                  <a:pt x="19223" y="13440"/>
                  <a:pt x="19250" y="13842"/>
                  <a:pt x="19174" y="13965"/>
                </a:cubicBezTo>
                <a:cubicBezTo>
                  <a:pt x="19145" y="14012"/>
                  <a:pt x="19110" y="14065"/>
                  <a:pt x="19100" y="14114"/>
                </a:cubicBezTo>
                <a:cubicBezTo>
                  <a:pt x="19100" y="14139"/>
                  <a:pt x="19100" y="14147"/>
                  <a:pt x="19100" y="14163"/>
                </a:cubicBezTo>
                <a:cubicBezTo>
                  <a:pt x="19063" y="14184"/>
                  <a:pt x="19016" y="14222"/>
                  <a:pt x="18976" y="14238"/>
                </a:cubicBezTo>
                <a:cubicBezTo>
                  <a:pt x="18968" y="14238"/>
                  <a:pt x="18959" y="14238"/>
                  <a:pt x="18951" y="14238"/>
                </a:cubicBezTo>
                <a:cubicBezTo>
                  <a:pt x="18927" y="14253"/>
                  <a:pt x="18928" y="14259"/>
                  <a:pt x="18876" y="14263"/>
                </a:cubicBezTo>
                <a:cubicBezTo>
                  <a:pt x="18868" y="14263"/>
                  <a:pt x="18860" y="14263"/>
                  <a:pt x="18852" y="14263"/>
                </a:cubicBezTo>
              </a:path>
              <a:path w="4020" h="1490">
                <a:moveTo>
                  <a:pt x="19496" y="13643"/>
                </a:moveTo>
                <a:cubicBezTo>
                  <a:pt x="19496" y="13635"/>
                  <a:pt x="19496" y="13626"/>
                  <a:pt x="19496" y="13618"/>
                </a:cubicBezTo>
                <a:cubicBezTo>
                  <a:pt x="19604" y="13618"/>
                  <a:pt x="19711" y="13618"/>
                  <a:pt x="19819" y="13618"/>
                </a:cubicBezTo>
              </a:path>
              <a:path w="4020" h="1490">
                <a:moveTo>
                  <a:pt x="19596" y="13965"/>
                </a:moveTo>
                <a:cubicBezTo>
                  <a:pt x="19676" y="13965"/>
                  <a:pt x="19729" y="13962"/>
                  <a:pt x="19794" y="13940"/>
                </a:cubicBezTo>
                <a:cubicBezTo>
                  <a:pt x="19820" y="13931"/>
                  <a:pt x="19865" y="13940"/>
                  <a:pt x="19893" y="13940"/>
                </a:cubicBezTo>
              </a:path>
              <a:path w="4020" h="1490">
                <a:moveTo>
                  <a:pt x="20216" y="13469"/>
                </a:moveTo>
                <a:cubicBezTo>
                  <a:pt x="20227" y="13425"/>
                  <a:pt x="20256" y="13404"/>
                  <a:pt x="20290" y="13370"/>
                </a:cubicBezTo>
                <a:cubicBezTo>
                  <a:pt x="20328" y="13332"/>
                  <a:pt x="20324" y="13331"/>
                  <a:pt x="20365" y="13295"/>
                </a:cubicBezTo>
                <a:cubicBezTo>
                  <a:pt x="20403" y="13261"/>
                  <a:pt x="20440" y="13271"/>
                  <a:pt x="20489" y="13271"/>
                </a:cubicBezTo>
                <a:cubicBezTo>
                  <a:pt x="20497" y="13271"/>
                  <a:pt x="20505" y="13271"/>
                  <a:pt x="20513" y="13271"/>
                </a:cubicBezTo>
                <a:cubicBezTo>
                  <a:pt x="20513" y="13363"/>
                  <a:pt x="20527" y="13460"/>
                  <a:pt x="20489" y="13543"/>
                </a:cubicBezTo>
                <a:cubicBezTo>
                  <a:pt x="20450" y="13627"/>
                  <a:pt x="20376" y="13776"/>
                  <a:pt x="20315" y="13841"/>
                </a:cubicBezTo>
                <a:cubicBezTo>
                  <a:pt x="20265" y="13894"/>
                  <a:pt x="20253" y="13929"/>
                  <a:pt x="20216" y="13990"/>
                </a:cubicBezTo>
                <a:cubicBezTo>
                  <a:pt x="20188" y="14037"/>
                  <a:pt x="20166" y="14029"/>
                  <a:pt x="20166" y="14089"/>
                </a:cubicBezTo>
                <a:cubicBezTo>
                  <a:pt x="20166" y="14123"/>
                  <a:pt x="20157" y="14158"/>
                  <a:pt x="20141" y="14188"/>
                </a:cubicBezTo>
                <a:cubicBezTo>
                  <a:pt x="20119" y="14211"/>
                  <a:pt x="20111" y="14216"/>
                  <a:pt x="20117" y="14238"/>
                </a:cubicBezTo>
                <a:cubicBezTo>
                  <a:pt x="20211" y="14238"/>
                  <a:pt x="20174" y="14187"/>
                  <a:pt x="20241" y="14163"/>
                </a:cubicBezTo>
                <a:cubicBezTo>
                  <a:pt x="20287" y="14146"/>
                  <a:pt x="20290" y="14139"/>
                  <a:pt x="20340" y="14139"/>
                </a:cubicBezTo>
                <a:cubicBezTo>
                  <a:pt x="20390" y="14139"/>
                  <a:pt x="20439" y="14139"/>
                  <a:pt x="20489" y="14139"/>
                </a:cubicBezTo>
              </a:path>
              <a:path w="4020" h="1490">
                <a:moveTo>
                  <a:pt x="20886" y="13469"/>
                </a:moveTo>
                <a:cubicBezTo>
                  <a:pt x="20886" y="13444"/>
                  <a:pt x="20886" y="13436"/>
                  <a:pt x="20886" y="13419"/>
                </a:cubicBezTo>
                <a:cubicBezTo>
                  <a:pt x="20797" y="13419"/>
                  <a:pt x="20797" y="13470"/>
                  <a:pt x="20762" y="13543"/>
                </a:cubicBezTo>
                <a:cubicBezTo>
                  <a:pt x="20737" y="13596"/>
                  <a:pt x="20697" y="13660"/>
                  <a:pt x="20687" y="13717"/>
                </a:cubicBezTo>
                <a:cubicBezTo>
                  <a:pt x="20669" y="13817"/>
                  <a:pt x="20687" y="13937"/>
                  <a:pt x="20687" y="14039"/>
                </a:cubicBezTo>
                <a:cubicBezTo>
                  <a:pt x="20754" y="14039"/>
                  <a:pt x="20716" y="14060"/>
                  <a:pt x="20786" y="14064"/>
                </a:cubicBezTo>
                <a:cubicBezTo>
                  <a:pt x="20881" y="14070"/>
                  <a:pt x="20954" y="14079"/>
                  <a:pt x="21010" y="14015"/>
                </a:cubicBezTo>
                <a:cubicBezTo>
                  <a:pt x="21056" y="13962"/>
                  <a:pt x="21087" y="13888"/>
                  <a:pt x="21109" y="13816"/>
                </a:cubicBezTo>
                <a:cubicBezTo>
                  <a:pt x="21129" y="13752"/>
                  <a:pt x="21124" y="13564"/>
                  <a:pt x="21084" y="13519"/>
                </a:cubicBezTo>
                <a:cubicBezTo>
                  <a:pt x="21052" y="13484"/>
                  <a:pt x="21053" y="13470"/>
                  <a:pt x="21034" y="13444"/>
                </a:cubicBezTo>
                <a:cubicBezTo>
                  <a:pt x="21008" y="13408"/>
                  <a:pt x="20975" y="13419"/>
                  <a:pt x="20935" y="13419"/>
                </a:cubicBezTo>
                <a:cubicBezTo>
                  <a:pt x="20885" y="13419"/>
                  <a:pt x="20836" y="13419"/>
                  <a:pt x="20786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4384800"/>
            <a:ext cx="457200" cy="465120"/>
          </a:xfrm>
          <a:custGeom>
            <a:avLst/>
            <a:gdLst/>
            <a:ahLst/>
            <a:rect l="l" t="t" r="r" b="b"/>
            <a:pathLst>
              <a:path w="1266" h="1291">
                <a:moveTo>
                  <a:pt x="22324" y="13246"/>
                </a:moveTo>
                <a:cubicBezTo>
                  <a:pt x="22371" y="13252"/>
                  <a:pt x="22384" y="13258"/>
                  <a:pt x="22423" y="13271"/>
                </a:cubicBezTo>
                <a:cubicBezTo>
                  <a:pt x="22479" y="13290"/>
                  <a:pt x="22499" y="13313"/>
                  <a:pt x="22547" y="13345"/>
                </a:cubicBezTo>
                <a:cubicBezTo>
                  <a:pt x="22600" y="13380"/>
                  <a:pt x="22621" y="13414"/>
                  <a:pt x="22671" y="13444"/>
                </a:cubicBezTo>
                <a:cubicBezTo>
                  <a:pt x="22713" y="13469"/>
                  <a:pt x="22720" y="13466"/>
                  <a:pt x="22771" y="13469"/>
                </a:cubicBezTo>
                <a:cubicBezTo>
                  <a:pt x="22831" y="13472"/>
                  <a:pt x="22841" y="13479"/>
                  <a:pt x="22870" y="13419"/>
                </a:cubicBezTo>
                <a:cubicBezTo>
                  <a:pt x="22980" y="13193"/>
                  <a:pt x="23086" y="12963"/>
                  <a:pt x="23168" y="12725"/>
                </a:cubicBezTo>
                <a:cubicBezTo>
                  <a:pt x="23213" y="12596"/>
                  <a:pt x="23258" y="12528"/>
                  <a:pt x="23341" y="12427"/>
                </a:cubicBezTo>
                <a:cubicBezTo>
                  <a:pt x="23412" y="12341"/>
                  <a:pt x="23484" y="12280"/>
                  <a:pt x="23564" y="12204"/>
                </a:cubicBezTo>
                <a:cubicBezTo>
                  <a:pt x="23572" y="12196"/>
                  <a:pt x="23581" y="12187"/>
                  <a:pt x="23589" y="121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Mulitiplica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5x = 3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 26 = 2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4m = 2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98720" y="830160"/>
            <a:ext cx="339480" cy="571680"/>
          </a:xfrm>
          <a:custGeom>
            <a:avLst/>
            <a:gdLst/>
            <a:ahLst/>
            <a:rect l="l" t="t" r="r" b="b"/>
            <a:pathLst>
              <a:path w="944" h="1588">
                <a:moveTo>
                  <a:pt x="3051" y="3398"/>
                </a:moveTo>
                <a:cubicBezTo>
                  <a:pt x="3051" y="3390"/>
                  <a:pt x="3051" y="3381"/>
                  <a:pt x="3051" y="3373"/>
                </a:cubicBezTo>
                <a:cubicBezTo>
                  <a:pt x="3080" y="3367"/>
                  <a:pt x="3149" y="3363"/>
                  <a:pt x="3175" y="3349"/>
                </a:cubicBezTo>
                <a:cubicBezTo>
                  <a:pt x="3231" y="3318"/>
                  <a:pt x="3278" y="3324"/>
                  <a:pt x="3349" y="3324"/>
                </a:cubicBezTo>
                <a:cubicBezTo>
                  <a:pt x="3408" y="3324"/>
                  <a:pt x="3448" y="3314"/>
                  <a:pt x="3497" y="3299"/>
                </a:cubicBezTo>
                <a:cubicBezTo>
                  <a:pt x="3635" y="3257"/>
                  <a:pt x="3848" y="3299"/>
                  <a:pt x="3994" y="3299"/>
                </a:cubicBezTo>
              </a:path>
              <a:path w="944" h="1588">
                <a:moveTo>
                  <a:pt x="3795" y="3572"/>
                </a:moveTo>
                <a:cubicBezTo>
                  <a:pt x="3794" y="3568"/>
                  <a:pt x="3774" y="3501"/>
                  <a:pt x="3770" y="3497"/>
                </a:cubicBezTo>
                <a:cubicBezTo>
                  <a:pt x="3763" y="3491"/>
                  <a:pt x="3702" y="3457"/>
                  <a:pt x="3696" y="3448"/>
                </a:cubicBezTo>
                <a:cubicBezTo>
                  <a:pt x="3674" y="3414"/>
                  <a:pt x="3648" y="3423"/>
                  <a:pt x="3597" y="3423"/>
                </a:cubicBezTo>
                <a:cubicBezTo>
                  <a:pt x="3534" y="3423"/>
                  <a:pt x="3476" y="3411"/>
                  <a:pt x="3448" y="3448"/>
                </a:cubicBezTo>
                <a:cubicBezTo>
                  <a:pt x="3432" y="3469"/>
                  <a:pt x="3401" y="3516"/>
                  <a:pt x="3398" y="3522"/>
                </a:cubicBezTo>
                <a:cubicBezTo>
                  <a:pt x="3391" y="3537"/>
                  <a:pt x="3398" y="3580"/>
                  <a:pt x="3398" y="3597"/>
                </a:cubicBezTo>
                <a:cubicBezTo>
                  <a:pt x="3444" y="3597"/>
                  <a:pt x="3573" y="3574"/>
                  <a:pt x="3597" y="3621"/>
                </a:cubicBezTo>
                <a:cubicBezTo>
                  <a:pt x="3616" y="3657"/>
                  <a:pt x="3597" y="3753"/>
                  <a:pt x="3597" y="3795"/>
                </a:cubicBezTo>
                <a:cubicBezTo>
                  <a:pt x="3522" y="3814"/>
                  <a:pt x="3483" y="3865"/>
                  <a:pt x="3398" y="3870"/>
                </a:cubicBezTo>
                <a:cubicBezTo>
                  <a:pt x="3349" y="3873"/>
                  <a:pt x="3298" y="3870"/>
                  <a:pt x="3249" y="3870"/>
                </a:cubicBezTo>
              </a:path>
              <a:path w="944" h="1588">
                <a:moveTo>
                  <a:pt x="3249" y="2307"/>
                </a:moveTo>
                <a:cubicBezTo>
                  <a:pt x="3249" y="2511"/>
                  <a:pt x="3210" y="2763"/>
                  <a:pt x="3274" y="2952"/>
                </a:cubicBezTo>
                <a:cubicBezTo>
                  <a:pt x="3299" y="3027"/>
                  <a:pt x="3276" y="3106"/>
                  <a:pt x="3299" y="3175"/>
                </a:cubicBezTo>
                <a:cubicBezTo>
                  <a:pt x="3313" y="3218"/>
                  <a:pt x="3324" y="3247"/>
                  <a:pt x="3324" y="3299"/>
                </a:cubicBezTo>
                <a:cubicBezTo>
                  <a:pt x="3324" y="3373"/>
                  <a:pt x="3319" y="3429"/>
                  <a:pt x="3349" y="3497"/>
                </a:cubicBezTo>
                <a:cubicBezTo>
                  <a:pt x="3376" y="3559"/>
                  <a:pt x="3394" y="3629"/>
                  <a:pt x="3398" y="3696"/>
                </a:cubicBezTo>
                <a:cubicBezTo>
                  <a:pt x="3402" y="3770"/>
                  <a:pt x="3398" y="3796"/>
                  <a:pt x="3398" y="38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71800" y="1197000"/>
            <a:ext cx="384120" cy="241200"/>
          </a:xfrm>
          <a:custGeom>
            <a:avLst/>
            <a:gdLst/>
            <a:ahLst/>
            <a:rect l="l" t="t" r="r" b="b"/>
            <a:pathLst>
              <a:path w="1067" h="671">
                <a:moveTo>
                  <a:pt x="5779" y="3423"/>
                </a:moveTo>
                <a:cubicBezTo>
                  <a:pt x="5767" y="3386"/>
                  <a:pt x="5755" y="3401"/>
                  <a:pt x="5755" y="3349"/>
                </a:cubicBezTo>
                <a:cubicBezTo>
                  <a:pt x="5842" y="3349"/>
                  <a:pt x="5915" y="3327"/>
                  <a:pt x="6003" y="3324"/>
                </a:cubicBezTo>
                <a:cubicBezTo>
                  <a:pt x="6275" y="3316"/>
                  <a:pt x="6549" y="3324"/>
                  <a:pt x="6821" y="3324"/>
                </a:cubicBezTo>
              </a:path>
              <a:path w="1067" h="671">
                <a:moveTo>
                  <a:pt x="6375" y="3522"/>
                </a:moveTo>
                <a:cubicBezTo>
                  <a:pt x="6363" y="3473"/>
                  <a:pt x="6350" y="3473"/>
                  <a:pt x="6300" y="3473"/>
                </a:cubicBezTo>
                <a:cubicBezTo>
                  <a:pt x="6193" y="3473"/>
                  <a:pt x="6085" y="3473"/>
                  <a:pt x="5978" y="3473"/>
                </a:cubicBezTo>
                <a:cubicBezTo>
                  <a:pt x="5978" y="3547"/>
                  <a:pt x="5978" y="3622"/>
                  <a:pt x="5978" y="3696"/>
                </a:cubicBezTo>
                <a:cubicBezTo>
                  <a:pt x="6075" y="3696"/>
                  <a:pt x="6191" y="3691"/>
                  <a:pt x="6251" y="3721"/>
                </a:cubicBezTo>
                <a:cubicBezTo>
                  <a:pt x="6286" y="3738"/>
                  <a:pt x="6276" y="3747"/>
                  <a:pt x="6276" y="3795"/>
                </a:cubicBezTo>
                <a:cubicBezTo>
                  <a:pt x="6276" y="3883"/>
                  <a:pt x="6291" y="3916"/>
                  <a:pt x="6226" y="3969"/>
                </a:cubicBezTo>
                <a:cubicBezTo>
                  <a:pt x="6185" y="4002"/>
                  <a:pt x="6157" y="3994"/>
                  <a:pt x="6102" y="3994"/>
                </a:cubicBezTo>
                <a:cubicBezTo>
                  <a:pt x="6061" y="3994"/>
                  <a:pt x="5975" y="4012"/>
                  <a:pt x="5953" y="3969"/>
                </a:cubicBezTo>
                <a:cubicBezTo>
                  <a:pt x="5938" y="3939"/>
                  <a:pt x="5938" y="3931"/>
                  <a:pt x="5904" y="39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5080" y="938160"/>
            <a:ext cx="822240" cy="347760"/>
          </a:xfrm>
          <a:custGeom>
            <a:avLst/>
            <a:gdLst/>
            <a:ahLst/>
            <a:rect l="l" t="t" r="r" b="b"/>
            <a:pathLst>
              <a:path w="2283" h="969">
                <a:moveTo>
                  <a:pt x="9947" y="2977"/>
                </a:moveTo>
                <a:cubicBezTo>
                  <a:pt x="9947" y="2969"/>
                  <a:pt x="9947" y="2960"/>
                  <a:pt x="9947" y="2952"/>
                </a:cubicBezTo>
                <a:cubicBezTo>
                  <a:pt x="10079" y="2952"/>
                  <a:pt x="10212" y="2952"/>
                  <a:pt x="10344" y="2952"/>
                </a:cubicBezTo>
              </a:path>
              <a:path w="2283" h="969">
                <a:moveTo>
                  <a:pt x="10071" y="3299"/>
                </a:moveTo>
                <a:cubicBezTo>
                  <a:pt x="10140" y="3299"/>
                  <a:pt x="10208" y="3286"/>
                  <a:pt x="10269" y="3324"/>
                </a:cubicBezTo>
                <a:cubicBezTo>
                  <a:pt x="10309" y="3349"/>
                  <a:pt x="10318" y="3349"/>
                  <a:pt x="10368" y="3349"/>
                </a:cubicBezTo>
              </a:path>
              <a:path w="2283" h="969">
                <a:moveTo>
                  <a:pt x="10716" y="2778"/>
                </a:moveTo>
                <a:cubicBezTo>
                  <a:pt x="10728" y="2740"/>
                  <a:pt x="10745" y="2753"/>
                  <a:pt x="10790" y="2753"/>
                </a:cubicBezTo>
                <a:cubicBezTo>
                  <a:pt x="10922" y="2753"/>
                  <a:pt x="11055" y="2753"/>
                  <a:pt x="11187" y="2753"/>
                </a:cubicBezTo>
                <a:cubicBezTo>
                  <a:pt x="11187" y="2833"/>
                  <a:pt x="11179" y="2833"/>
                  <a:pt x="11137" y="2902"/>
                </a:cubicBezTo>
                <a:cubicBezTo>
                  <a:pt x="11100" y="2962"/>
                  <a:pt x="11072" y="3048"/>
                  <a:pt x="11038" y="3101"/>
                </a:cubicBezTo>
                <a:cubicBezTo>
                  <a:pt x="11008" y="3147"/>
                  <a:pt x="11005" y="3152"/>
                  <a:pt x="10988" y="3200"/>
                </a:cubicBezTo>
                <a:cubicBezTo>
                  <a:pt x="10972" y="3245"/>
                  <a:pt x="10944" y="3281"/>
                  <a:pt x="10939" y="3324"/>
                </a:cubicBezTo>
                <a:cubicBezTo>
                  <a:pt x="10934" y="3365"/>
                  <a:pt x="10914" y="3342"/>
                  <a:pt x="10914" y="3398"/>
                </a:cubicBezTo>
                <a:cubicBezTo>
                  <a:pt x="10914" y="3437"/>
                  <a:pt x="10889" y="3418"/>
                  <a:pt x="10889" y="3473"/>
                </a:cubicBezTo>
                <a:cubicBezTo>
                  <a:pt x="10889" y="3497"/>
                  <a:pt x="10889" y="3505"/>
                  <a:pt x="10864" y="3497"/>
                </a:cubicBezTo>
              </a:path>
              <a:path w="2283" h="969">
                <a:moveTo>
                  <a:pt x="9004" y="2604"/>
                </a:moveTo>
                <a:cubicBezTo>
                  <a:pt x="8975" y="2604"/>
                  <a:pt x="8917" y="2590"/>
                  <a:pt x="8905" y="2629"/>
                </a:cubicBezTo>
                <a:cubicBezTo>
                  <a:pt x="8873" y="2734"/>
                  <a:pt x="8909" y="2899"/>
                  <a:pt x="8930" y="3001"/>
                </a:cubicBezTo>
                <a:cubicBezTo>
                  <a:pt x="8962" y="3157"/>
                  <a:pt x="9007" y="3315"/>
                  <a:pt x="9029" y="3473"/>
                </a:cubicBezTo>
                <a:cubicBezTo>
                  <a:pt x="9033" y="3503"/>
                  <a:pt x="9029" y="3541"/>
                  <a:pt x="9029" y="3572"/>
                </a:cubicBezTo>
              </a:path>
              <a:path w="2283" h="969">
                <a:moveTo>
                  <a:pt x="9227" y="3001"/>
                </a:moveTo>
                <a:cubicBezTo>
                  <a:pt x="9316" y="3019"/>
                  <a:pt x="9307" y="3073"/>
                  <a:pt x="9376" y="3125"/>
                </a:cubicBezTo>
                <a:cubicBezTo>
                  <a:pt x="9438" y="3172"/>
                  <a:pt x="9493" y="3218"/>
                  <a:pt x="9550" y="3274"/>
                </a:cubicBezTo>
                <a:cubicBezTo>
                  <a:pt x="9578" y="3302"/>
                  <a:pt x="9641" y="3333"/>
                  <a:pt x="9649" y="3349"/>
                </a:cubicBezTo>
                <a:cubicBezTo>
                  <a:pt x="9649" y="3357"/>
                  <a:pt x="9649" y="3365"/>
                  <a:pt x="9649" y="3373"/>
                </a:cubicBezTo>
              </a:path>
              <a:path w="2283" h="969">
                <a:moveTo>
                  <a:pt x="9599" y="2952"/>
                </a:moveTo>
                <a:cubicBezTo>
                  <a:pt x="9549" y="2972"/>
                  <a:pt x="9464" y="3069"/>
                  <a:pt x="9451" y="3125"/>
                </a:cubicBezTo>
                <a:cubicBezTo>
                  <a:pt x="9430" y="3213"/>
                  <a:pt x="9414" y="3274"/>
                  <a:pt x="9376" y="3349"/>
                </a:cubicBezTo>
                <a:cubicBezTo>
                  <a:pt x="9368" y="3365"/>
                  <a:pt x="9316" y="3441"/>
                  <a:pt x="9302" y="3448"/>
                </a:cubicBezTo>
                <a:cubicBezTo>
                  <a:pt x="9294" y="3448"/>
                  <a:pt x="9285" y="3448"/>
                  <a:pt x="9277" y="34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866880"/>
            <a:ext cx="571320" cy="268200"/>
          </a:xfrm>
          <a:custGeom>
            <a:avLst/>
            <a:gdLst/>
            <a:ahLst/>
            <a:rect l="l" t="t" r="r" b="b"/>
            <a:pathLst>
              <a:path w="1589" h="745">
                <a:moveTo>
                  <a:pt x="14089" y="2480"/>
                </a:moveTo>
                <a:cubicBezTo>
                  <a:pt x="14096" y="2506"/>
                  <a:pt x="14110" y="2565"/>
                  <a:pt x="14139" y="2580"/>
                </a:cubicBezTo>
                <a:cubicBezTo>
                  <a:pt x="14147" y="2580"/>
                  <a:pt x="14155" y="2580"/>
                  <a:pt x="14163" y="2580"/>
                </a:cubicBezTo>
                <a:cubicBezTo>
                  <a:pt x="14163" y="2729"/>
                  <a:pt x="14163" y="2877"/>
                  <a:pt x="14163" y="3026"/>
                </a:cubicBezTo>
              </a:path>
              <a:path w="1589" h="745">
                <a:moveTo>
                  <a:pt x="14312" y="2406"/>
                </a:moveTo>
                <a:cubicBezTo>
                  <a:pt x="14288" y="2406"/>
                  <a:pt x="14279" y="2406"/>
                  <a:pt x="14263" y="2406"/>
                </a:cubicBezTo>
                <a:cubicBezTo>
                  <a:pt x="14250" y="2446"/>
                  <a:pt x="14251" y="2416"/>
                  <a:pt x="14238" y="2456"/>
                </a:cubicBezTo>
                <a:cubicBezTo>
                  <a:pt x="14226" y="2460"/>
                  <a:pt x="14147" y="2538"/>
                  <a:pt x="14139" y="2555"/>
                </a:cubicBezTo>
                <a:cubicBezTo>
                  <a:pt x="14117" y="2603"/>
                  <a:pt x="14112" y="2683"/>
                  <a:pt x="14089" y="2729"/>
                </a:cubicBezTo>
                <a:cubicBezTo>
                  <a:pt x="14073" y="2761"/>
                  <a:pt x="14054" y="2799"/>
                  <a:pt x="14039" y="2828"/>
                </a:cubicBezTo>
                <a:cubicBezTo>
                  <a:pt x="14017" y="2850"/>
                  <a:pt x="14009" y="2855"/>
                  <a:pt x="14015" y="2877"/>
                </a:cubicBezTo>
                <a:cubicBezTo>
                  <a:pt x="13975" y="2890"/>
                  <a:pt x="14005" y="2889"/>
                  <a:pt x="13965" y="2902"/>
                </a:cubicBezTo>
                <a:cubicBezTo>
                  <a:pt x="13965" y="2927"/>
                  <a:pt x="13965" y="2935"/>
                  <a:pt x="13965" y="2952"/>
                </a:cubicBezTo>
              </a:path>
              <a:path w="1589" h="745">
                <a:moveTo>
                  <a:pt x="14461" y="2729"/>
                </a:moveTo>
                <a:cubicBezTo>
                  <a:pt x="14516" y="2696"/>
                  <a:pt x="14567" y="2704"/>
                  <a:pt x="14635" y="2704"/>
                </a:cubicBezTo>
                <a:cubicBezTo>
                  <a:pt x="14709" y="2704"/>
                  <a:pt x="14784" y="2704"/>
                  <a:pt x="14858" y="2704"/>
                </a:cubicBezTo>
              </a:path>
              <a:path w="1589" h="745">
                <a:moveTo>
                  <a:pt x="14610" y="2877"/>
                </a:moveTo>
                <a:cubicBezTo>
                  <a:pt x="14610" y="2885"/>
                  <a:pt x="14610" y="2894"/>
                  <a:pt x="14610" y="2902"/>
                </a:cubicBezTo>
                <a:cubicBezTo>
                  <a:pt x="14709" y="2902"/>
                  <a:pt x="14809" y="2902"/>
                  <a:pt x="14908" y="2902"/>
                </a:cubicBezTo>
              </a:path>
              <a:path w="1589" h="745">
                <a:moveTo>
                  <a:pt x="15106" y="2505"/>
                </a:moveTo>
                <a:cubicBezTo>
                  <a:pt x="15106" y="2480"/>
                  <a:pt x="15106" y="2472"/>
                  <a:pt x="15106" y="2456"/>
                </a:cubicBezTo>
                <a:cubicBezTo>
                  <a:pt x="15255" y="2456"/>
                  <a:pt x="15404" y="2456"/>
                  <a:pt x="15553" y="2456"/>
                </a:cubicBezTo>
                <a:cubicBezTo>
                  <a:pt x="15553" y="2559"/>
                  <a:pt x="15557" y="2652"/>
                  <a:pt x="15528" y="2753"/>
                </a:cubicBezTo>
                <a:cubicBezTo>
                  <a:pt x="15496" y="2862"/>
                  <a:pt x="15469" y="2996"/>
                  <a:pt x="15429" y="3101"/>
                </a:cubicBezTo>
                <a:cubicBezTo>
                  <a:pt x="15421" y="3117"/>
                  <a:pt x="15412" y="3134"/>
                  <a:pt x="15404" y="31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42040" y="874800"/>
            <a:ext cx="1224000" cy="428400"/>
          </a:xfrm>
          <a:custGeom>
            <a:avLst/>
            <a:gdLst/>
            <a:ahLst/>
            <a:rect l="l" t="t" r="r" b="b"/>
            <a:pathLst>
              <a:path w="3400" h="1191">
                <a:moveTo>
                  <a:pt x="17859" y="2729"/>
                </a:moveTo>
                <a:cubicBezTo>
                  <a:pt x="17694" y="2729"/>
                  <a:pt x="17528" y="2729"/>
                  <a:pt x="17363" y="2729"/>
                </a:cubicBezTo>
                <a:cubicBezTo>
                  <a:pt x="17363" y="2812"/>
                  <a:pt x="17363" y="2894"/>
                  <a:pt x="17363" y="2977"/>
                </a:cubicBezTo>
                <a:cubicBezTo>
                  <a:pt x="17482" y="2977"/>
                  <a:pt x="17741" y="2926"/>
                  <a:pt x="17835" y="3001"/>
                </a:cubicBezTo>
                <a:cubicBezTo>
                  <a:pt x="17861" y="3022"/>
                  <a:pt x="17903" y="3072"/>
                  <a:pt x="17909" y="3101"/>
                </a:cubicBezTo>
                <a:cubicBezTo>
                  <a:pt x="17927" y="3186"/>
                  <a:pt x="17946" y="3424"/>
                  <a:pt x="17859" y="3473"/>
                </a:cubicBezTo>
                <a:cubicBezTo>
                  <a:pt x="17762" y="3528"/>
                  <a:pt x="17659" y="3557"/>
                  <a:pt x="17562" y="3597"/>
                </a:cubicBezTo>
                <a:cubicBezTo>
                  <a:pt x="17518" y="3615"/>
                  <a:pt x="17490" y="3621"/>
                  <a:pt x="17438" y="3621"/>
                </a:cubicBezTo>
                <a:cubicBezTo>
                  <a:pt x="17379" y="3621"/>
                  <a:pt x="17400" y="3613"/>
                  <a:pt x="17363" y="3572"/>
                </a:cubicBezTo>
                <a:cubicBezTo>
                  <a:pt x="17334" y="3540"/>
                  <a:pt x="17338" y="3539"/>
                  <a:pt x="17338" y="3497"/>
                </a:cubicBezTo>
              </a:path>
              <a:path w="3400" h="1191">
                <a:moveTo>
                  <a:pt x="18207" y="2505"/>
                </a:moveTo>
                <a:cubicBezTo>
                  <a:pt x="18178" y="2447"/>
                  <a:pt x="18138" y="2634"/>
                  <a:pt x="18132" y="2679"/>
                </a:cubicBezTo>
                <a:cubicBezTo>
                  <a:pt x="18119" y="2772"/>
                  <a:pt x="18107" y="2854"/>
                  <a:pt x="18107" y="2952"/>
                </a:cubicBezTo>
                <a:cubicBezTo>
                  <a:pt x="18107" y="3064"/>
                  <a:pt x="18116" y="3086"/>
                  <a:pt x="18157" y="3175"/>
                </a:cubicBezTo>
                <a:cubicBezTo>
                  <a:pt x="18169" y="3202"/>
                  <a:pt x="18202" y="3240"/>
                  <a:pt x="18207" y="3249"/>
                </a:cubicBezTo>
                <a:cubicBezTo>
                  <a:pt x="18210" y="3256"/>
                  <a:pt x="18225" y="3319"/>
                  <a:pt x="18231" y="3324"/>
                </a:cubicBezTo>
                <a:cubicBezTo>
                  <a:pt x="18256" y="3324"/>
                  <a:pt x="18264" y="3324"/>
                  <a:pt x="18256" y="3349"/>
                </a:cubicBezTo>
              </a:path>
              <a:path w="3400" h="1191">
                <a:moveTo>
                  <a:pt x="18281" y="2828"/>
                </a:moveTo>
                <a:cubicBezTo>
                  <a:pt x="18405" y="2828"/>
                  <a:pt x="18529" y="2828"/>
                  <a:pt x="18653" y="2828"/>
                </a:cubicBezTo>
                <a:cubicBezTo>
                  <a:pt x="18653" y="2952"/>
                  <a:pt x="18653" y="3076"/>
                  <a:pt x="18653" y="3200"/>
                </a:cubicBezTo>
              </a:path>
              <a:path w="3400" h="1191">
                <a:moveTo>
                  <a:pt x="18703" y="2431"/>
                </a:moveTo>
                <a:cubicBezTo>
                  <a:pt x="18757" y="2431"/>
                  <a:pt x="18776" y="2432"/>
                  <a:pt x="18827" y="2456"/>
                </a:cubicBezTo>
                <a:cubicBezTo>
                  <a:pt x="18918" y="2498"/>
                  <a:pt x="18983" y="2594"/>
                  <a:pt x="19025" y="2679"/>
                </a:cubicBezTo>
                <a:cubicBezTo>
                  <a:pt x="19051" y="2730"/>
                  <a:pt x="19075" y="2774"/>
                  <a:pt x="19075" y="2828"/>
                </a:cubicBezTo>
                <a:cubicBezTo>
                  <a:pt x="19075" y="2945"/>
                  <a:pt x="19069" y="3018"/>
                  <a:pt x="19025" y="3125"/>
                </a:cubicBezTo>
                <a:cubicBezTo>
                  <a:pt x="18997" y="3193"/>
                  <a:pt x="18985" y="3265"/>
                  <a:pt x="18951" y="3324"/>
                </a:cubicBezTo>
                <a:cubicBezTo>
                  <a:pt x="18931" y="3364"/>
                  <a:pt x="18922" y="3370"/>
                  <a:pt x="18926" y="3398"/>
                </a:cubicBezTo>
              </a:path>
              <a:path w="3400" h="1191">
                <a:moveTo>
                  <a:pt x="19298" y="3026"/>
                </a:moveTo>
                <a:cubicBezTo>
                  <a:pt x="19298" y="3001"/>
                  <a:pt x="19298" y="2993"/>
                  <a:pt x="19298" y="2977"/>
                </a:cubicBezTo>
                <a:cubicBezTo>
                  <a:pt x="19364" y="2977"/>
                  <a:pt x="19430" y="2977"/>
                  <a:pt x="19496" y="2977"/>
                </a:cubicBezTo>
              </a:path>
              <a:path w="3400" h="1191">
                <a:moveTo>
                  <a:pt x="19348" y="3274"/>
                </a:moveTo>
                <a:cubicBezTo>
                  <a:pt x="19414" y="3274"/>
                  <a:pt x="19480" y="3274"/>
                  <a:pt x="19546" y="3274"/>
                </a:cubicBezTo>
              </a:path>
              <a:path w="3400" h="1191">
                <a:moveTo>
                  <a:pt x="19769" y="2778"/>
                </a:moveTo>
                <a:cubicBezTo>
                  <a:pt x="19798" y="2722"/>
                  <a:pt x="19856" y="2698"/>
                  <a:pt x="19918" y="2679"/>
                </a:cubicBezTo>
                <a:cubicBezTo>
                  <a:pt x="19994" y="2656"/>
                  <a:pt x="20038" y="2629"/>
                  <a:pt x="20117" y="2629"/>
                </a:cubicBezTo>
                <a:cubicBezTo>
                  <a:pt x="20125" y="2629"/>
                  <a:pt x="20133" y="2629"/>
                  <a:pt x="20141" y="2629"/>
                </a:cubicBezTo>
                <a:cubicBezTo>
                  <a:pt x="20141" y="2686"/>
                  <a:pt x="20160" y="2785"/>
                  <a:pt x="20117" y="2828"/>
                </a:cubicBezTo>
                <a:cubicBezTo>
                  <a:pt x="20087" y="2858"/>
                  <a:pt x="20036" y="2899"/>
                  <a:pt x="20017" y="2927"/>
                </a:cubicBezTo>
                <a:cubicBezTo>
                  <a:pt x="20017" y="2955"/>
                  <a:pt x="20015" y="2966"/>
                  <a:pt x="19993" y="2977"/>
                </a:cubicBezTo>
                <a:cubicBezTo>
                  <a:pt x="20043" y="2967"/>
                  <a:pt x="20111" y="2930"/>
                  <a:pt x="20166" y="2952"/>
                </a:cubicBezTo>
                <a:cubicBezTo>
                  <a:pt x="20207" y="2968"/>
                  <a:pt x="20191" y="3045"/>
                  <a:pt x="20191" y="3076"/>
                </a:cubicBezTo>
                <a:cubicBezTo>
                  <a:pt x="20191" y="3141"/>
                  <a:pt x="20215" y="3275"/>
                  <a:pt x="20166" y="3324"/>
                </a:cubicBezTo>
                <a:cubicBezTo>
                  <a:pt x="20133" y="3357"/>
                  <a:pt x="20136" y="3407"/>
                  <a:pt x="20092" y="3423"/>
                </a:cubicBezTo>
                <a:cubicBezTo>
                  <a:pt x="20045" y="3440"/>
                  <a:pt x="20043" y="3448"/>
                  <a:pt x="19993" y="3448"/>
                </a:cubicBezTo>
                <a:cubicBezTo>
                  <a:pt x="19950" y="3448"/>
                  <a:pt x="19895" y="3466"/>
                  <a:pt x="19869" y="3423"/>
                </a:cubicBezTo>
                <a:cubicBezTo>
                  <a:pt x="19858" y="3404"/>
                  <a:pt x="19850" y="3372"/>
                  <a:pt x="19844" y="3349"/>
                </a:cubicBezTo>
              </a:path>
              <a:path w="3400" h="1191">
                <a:moveTo>
                  <a:pt x="20638" y="2555"/>
                </a:moveTo>
                <a:cubicBezTo>
                  <a:pt x="20614" y="2591"/>
                  <a:pt x="20570" y="2580"/>
                  <a:pt x="20513" y="2580"/>
                </a:cubicBezTo>
                <a:cubicBezTo>
                  <a:pt x="20448" y="2580"/>
                  <a:pt x="20421" y="2588"/>
                  <a:pt x="20389" y="2604"/>
                </a:cubicBezTo>
                <a:cubicBezTo>
                  <a:pt x="20352" y="2622"/>
                  <a:pt x="20365" y="2649"/>
                  <a:pt x="20365" y="2704"/>
                </a:cubicBezTo>
                <a:cubicBezTo>
                  <a:pt x="20365" y="2762"/>
                  <a:pt x="20365" y="2819"/>
                  <a:pt x="20365" y="2877"/>
                </a:cubicBezTo>
                <a:cubicBezTo>
                  <a:pt x="20426" y="2877"/>
                  <a:pt x="20681" y="2840"/>
                  <a:pt x="20712" y="2902"/>
                </a:cubicBezTo>
                <a:cubicBezTo>
                  <a:pt x="20738" y="2954"/>
                  <a:pt x="20737" y="3016"/>
                  <a:pt x="20737" y="3076"/>
                </a:cubicBezTo>
                <a:cubicBezTo>
                  <a:pt x="20737" y="3182"/>
                  <a:pt x="20764" y="3287"/>
                  <a:pt x="20687" y="3349"/>
                </a:cubicBezTo>
                <a:cubicBezTo>
                  <a:pt x="20643" y="3384"/>
                  <a:pt x="20595" y="3417"/>
                  <a:pt x="20538" y="3423"/>
                </a:cubicBezTo>
                <a:cubicBezTo>
                  <a:pt x="20464" y="3430"/>
                  <a:pt x="20460" y="3423"/>
                  <a:pt x="20414" y="3373"/>
                </a:cubicBezTo>
                <a:cubicBezTo>
                  <a:pt x="20377" y="3334"/>
                  <a:pt x="20374" y="3344"/>
                  <a:pt x="20340" y="32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13800" y="847800"/>
            <a:ext cx="295200" cy="501480"/>
          </a:xfrm>
          <a:custGeom>
            <a:avLst/>
            <a:gdLst/>
            <a:ahLst/>
            <a:rect l="l" t="t" r="r" b="b"/>
            <a:pathLst>
              <a:path w="820" h="1391">
                <a:moveTo>
                  <a:pt x="21704" y="3497"/>
                </a:moveTo>
                <a:cubicBezTo>
                  <a:pt x="21801" y="3509"/>
                  <a:pt x="21769" y="3519"/>
                  <a:pt x="21828" y="3597"/>
                </a:cubicBezTo>
                <a:cubicBezTo>
                  <a:pt x="21868" y="3650"/>
                  <a:pt x="21901" y="3692"/>
                  <a:pt x="21927" y="3746"/>
                </a:cubicBezTo>
                <a:cubicBezTo>
                  <a:pt x="22008" y="3646"/>
                  <a:pt x="22029" y="3546"/>
                  <a:pt x="22076" y="3398"/>
                </a:cubicBezTo>
                <a:cubicBezTo>
                  <a:pt x="22168" y="3106"/>
                  <a:pt x="22270" y="2797"/>
                  <a:pt x="22423" y="2530"/>
                </a:cubicBezTo>
                <a:cubicBezTo>
                  <a:pt x="22463" y="2460"/>
                  <a:pt x="22493" y="2421"/>
                  <a:pt x="22523" y="23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2973240"/>
            <a:ext cx="339840" cy="312840"/>
          </a:xfrm>
          <a:custGeom>
            <a:avLst/>
            <a:gdLst/>
            <a:ahLst/>
            <a:rect l="l" t="t" r="r" b="b"/>
            <a:pathLst>
              <a:path w="944" h="869">
                <a:moveTo>
                  <a:pt x="3299" y="8384"/>
                </a:moveTo>
                <a:cubicBezTo>
                  <a:pt x="3299" y="8323"/>
                  <a:pt x="3320" y="8318"/>
                  <a:pt x="3398" y="8310"/>
                </a:cubicBezTo>
                <a:cubicBezTo>
                  <a:pt x="3547" y="8296"/>
                  <a:pt x="3697" y="8274"/>
                  <a:pt x="3845" y="8260"/>
                </a:cubicBezTo>
                <a:cubicBezTo>
                  <a:pt x="3975" y="8248"/>
                  <a:pt x="4111" y="8260"/>
                  <a:pt x="4242" y="8260"/>
                </a:cubicBezTo>
              </a:path>
              <a:path w="944" h="869">
                <a:moveTo>
                  <a:pt x="3671" y="8582"/>
                </a:moveTo>
                <a:cubicBezTo>
                  <a:pt x="3671" y="8519"/>
                  <a:pt x="3700" y="8539"/>
                  <a:pt x="3721" y="8508"/>
                </a:cubicBezTo>
                <a:cubicBezTo>
                  <a:pt x="3742" y="8477"/>
                  <a:pt x="3744" y="8483"/>
                  <a:pt x="3795" y="8483"/>
                </a:cubicBezTo>
                <a:cubicBezTo>
                  <a:pt x="3820" y="8483"/>
                  <a:pt x="3845" y="8483"/>
                  <a:pt x="3870" y="8483"/>
                </a:cubicBezTo>
                <a:cubicBezTo>
                  <a:pt x="3870" y="8532"/>
                  <a:pt x="3895" y="8682"/>
                  <a:pt x="3845" y="8706"/>
                </a:cubicBezTo>
                <a:cubicBezTo>
                  <a:pt x="3814" y="8721"/>
                  <a:pt x="3789" y="8728"/>
                  <a:pt x="3770" y="8781"/>
                </a:cubicBezTo>
                <a:cubicBezTo>
                  <a:pt x="3762" y="8803"/>
                  <a:pt x="3731" y="8861"/>
                  <a:pt x="3696" y="8880"/>
                </a:cubicBezTo>
                <a:cubicBezTo>
                  <a:pt x="3657" y="8902"/>
                  <a:pt x="3636" y="8912"/>
                  <a:pt x="3621" y="8954"/>
                </a:cubicBezTo>
                <a:cubicBezTo>
                  <a:pt x="3607" y="8993"/>
                  <a:pt x="3601" y="9039"/>
                  <a:pt x="3572" y="9054"/>
                </a:cubicBezTo>
                <a:cubicBezTo>
                  <a:pt x="3548" y="9066"/>
                  <a:pt x="3505" y="9099"/>
                  <a:pt x="3497" y="9103"/>
                </a:cubicBezTo>
                <a:cubicBezTo>
                  <a:pt x="3473" y="9103"/>
                  <a:pt x="3465" y="9103"/>
                  <a:pt x="3473" y="9128"/>
                </a:cubicBezTo>
                <a:cubicBezTo>
                  <a:pt x="3544" y="9128"/>
                  <a:pt x="3493" y="9105"/>
                  <a:pt x="3547" y="9079"/>
                </a:cubicBezTo>
                <a:cubicBezTo>
                  <a:pt x="3579" y="9063"/>
                  <a:pt x="3606" y="9054"/>
                  <a:pt x="3646" y="9054"/>
                </a:cubicBezTo>
                <a:cubicBezTo>
                  <a:pt x="3754" y="9054"/>
                  <a:pt x="3861" y="9054"/>
                  <a:pt x="3969" y="90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08160" y="2643120"/>
            <a:ext cx="419040" cy="615960"/>
          </a:xfrm>
          <a:custGeom>
            <a:avLst/>
            <a:gdLst/>
            <a:ahLst/>
            <a:rect l="l" t="t" r="r" b="b"/>
            <a:pathLst>
              <a:path w="1167" h="1713">
                <a:moveTo>
                  <a:pt x="5854" y="8359"/>
                </a:moveTo>
                <a:cubicBezTo>
                  <a:pt x="5897" y="8295"/>
                  <a:pt x="6070" y="8322"/>
                  <a:pt x="6152" y="8310"/>
                </a:cubicBezTo>
                <a:cubicBezTo>
                  <a:pt x="6253" y="8296"/>
                  <a:pt x="6351" y="8266"/>
                  <a:pt x="6449" y="8260"/>
                </a:cubicBezTo>
                <a:cubicBezTo>
                  <a:pt x="6638" y="8249"/>
                  <a:pt x="6831" y="8260"/>
                  <a:pt x="7020" y="8260"/>
                </a:cubicBezTo>
              </a:path>
              <a:path w="1167" h="1713">
                <a:moveTo>
                  <a:pt x="6152" y="8582"/>
                </a:moveTo>
                <a:cubicBezTo>
                  <a:pt x="6207" y="8582"/>
                  <a:pt x="6186" y="8563"/>
                  <a:pt x="6226" y="8558"/>
                </a:cubicBezTo>
                <a:cubicBezTo>
                  <a:pt x="6274" y="8552"/>
                  <a:pt x="6327" y="8558"/>
                  <a:pt x="6375" y="8558"/>
                </a:cubicBezTo>
                <a:cubicBezTo>
                  <a:pt x="6375" y="8644"/>
                  <a:pt x="6383" y="8724"/>
                  <a:pt x="6350" y="8806"/>
                </a:cubicBezTo>
                <a:cubicBezTo>
                  <a:pt x="6333" y="8848"/>
                  <a:pt x="6288" y="8928"/>
                  <a:pt x="6251" y="8954"/>
                </a:cubicBezTo>
                <a:cubicBezTo>
                  <a:pt x="6221" y="8975"/>
                  <a:pt x="6189" y="9022"/>
                  <a:pt x="6176" y="9029"/>
                </a:cubicBezTo>
                <a:cubicBezTo>
                  <a:pt x="6157" y="9039"/>
                  <a:pt x="6108" y="9054"/>
                  <a:pt x="6152" y="9054"/>
                </a:cubicBezTo>
                <a:cubicBezTo>
                  <a:pt x="6317" y="9054"/>
                  <a:pt x="6483" y="9054"/>
                  <a:pt x="6648" y="9054"/>
                </a:cubicBezTo>
              </a:path>
              <a:path w="1167" h="1713">
                <a:moveTo>
                  <a:pt x="5978" y="7342"/>
                </a:moveTo>
                <a:cubicBezTo>
                  <a:pt x="5978" y="7448"/>
                  <a:pt x="5986" y="7540"/>
                  <a:pt x="6003" y="7640"/>
                </a:cubicBezTo>
                <a:cubicBezTo>
                  <a:pt x="6030" y="7800"/>
                  <a:pt x="6005" y="7986"/>
                  <a:pt x="6028" y="8136"/>
                </a:cubicBezTo>
                <a:cubicBezTo>
                  <a:pt x="6041" y="8220"/>
                  <a:pt x="6038" y="8309"/>
                  <a:pt x="6052" y="8384"/>
                </a:cubicBezTo>
                <a:cubicBezTo>
                  <a:pt x="6060" y="8426"/>
                  <a:pt x="6070" y="8474"/>
                  <a:pt x="6077" y="8508"/>
                </a:cubicBezTo>
                <a:cubicBezTo>
                  <a:pt x="6082" y="8532"/>
                  <a:pt x="6074" y="8558"/>
                  <a:pt x="6077" y="8582"/>
                </a:cubicBezTo>
                <a:cubicBezTo>
                  <a:pt x="6087" y="8592"/>
                  <a:pt x="6114" y="8646"/>
                  <a:pt x="6127" y="8657"/>
                </a:cubicBezTo>
                <a:cubicBezTo>
                  <a:pt x="6158" y="8684"/>
                  <a:pt x="6203" y="8711"/>
                  <a:pt x="6226" y="8731"/>
                </a:cubicBezTo>
                <a:cubicBezTo>
                  <a:pt x="6241" y="8749"/>
                  <a:pt x="6261" y="8773"/>
                  <a:pt x="6276" y="8806"/>
                </a:cubicBezTo>
                <a:cubicBezTo>
                  <a:pt x="6276" y="8814"/>
                  <a:pt x="6276" y="8822"/>
                  <a:pt x="6276" y="8830"/>
                </a:cubicBezTo>
                <a:cubicBezTo>
                  <a:pt x="6294" y="8855"/>
                  <a:pt x="6292" y="8831"/>
                  <a:pt x="6300" y="8880"/>
                </a:cubicBezTo>
                <a:cubicBezTo>
                  <a:pt x="6315" y="8904"/>
                  <a:pt x="6318" y="8904"/>
                  <a:pt x="6325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8000" y="2847960"/>
            <a:ext cx="1001880" cy="322200"/>
          </a:xfrm>
          <a:custGeom>
            <a:avLst/>
            <a:gdLst/>
            <a:ahLst/>
            <a:rect l="l" t="t" r="r" b="b"/>
            <a:pathLst>
              <a:path w="2779" h="894">
                <a:moveTo>
                  <a:pt x="9302" y="7913"/>
                </a:moveTo>
                <a:cubicBezTo>
                  <a:pt x="9302" y="8144"/>
                  <a:pt x="9302" y="8376"/>
                  <a:pt x="9302" y="8607"/>
                </a:cubicBezTo>
              </a:path>
              <a:path w="2779" h="894">
                <a:moveTo>
                  <a:pt x="9674" y="8086"/>
                </a:moveTo>
                <a:cubicBezTo>
                  <a:pt x="9674" y="8037"/>
                  <a:pt x="9674" y="7987"/>
                  <a:pt x="9674" y="7938"/>
                </a:cubicBezTo>
                <a:cubicBezTo>
                  <a:pt x="9733" y="7938"/>
                  <a:pt x="9945" y="7909"/>
                  <a:pt x="9971" y="7962"/>
                </a:cubicBezTo>
                <a:cubicBezTo>
                  <a:pt x="10003" y="8027"/>
                  <a:pt x="9971" y="8185"/>
                  <a:pt x="9971" y="8260"/>
                </a:cubicBezTo>
                <a:cubicBezTo>
                  <a:pt x="9913" y="8260"/>
                  <a:pt x="9856" y="8260"/>
                  <a:pt x="9798" y="8260"/>
                </a:cubicBezTo>
                <a:cubicBezTo>
                  <a:pt x="9811" y="8298"/>
                  <a:pt x="9827" y="8285"/>
                  <a:pt x="9872" y="8285"/>
                </a:cubicBezTo>
                <a:cubicBezTo>
                  <a:pt x="9905" y="8285"/>
                  <a:pt x="9938" y="8285"/>
                  <a:pt x="9971" y="8285"/>
                </a:cubicBezTo>
                <a:cubicBezTo>
                  <a:pt x="9971" y="8335"/>
                  <a:pt x="9982" y="8343"/>
                  <a:pt x="9996" y="8384"/>
                </a:cubicBezTo>
                <a:cubicBezTo>
                  <a:pt x="10009" y="8424"/>
                  <a:pt x="10017" y="8465"/>
                  <a:pt x="10021" y="8508"/>
                </a:cubicBezTo>
                <a:cubicBezTo>
                  <a:pt x="10025" y="8552"/>
                  <a:pt x="10041" y="8684"/>
                  <a:pt x="9996" y="8706"/>
                </a:cubicBezTo>
                <a:cubicBezTo>
                  <a:pt x="9971" y="8718"/>
                  <a:pt x="9930" y="8752"/>
                  <a:pt x="9922" y="8756"/>
                </a:cubicBezTo>
                <a:cubicBezTo>
                  <a:pt x="9856" y="8789"/>
                  <a:pt x="9706" y="8747"/>
                  <a:pt x="9674" y="8731"/>
                </a:cubicBezTo>
                <a:cubicBezTo>
                  <a:pt x="9639" y="8714"/>
                  <a:pt x="9649" y="8705"/>
                  <a:pt x="9649" y="8657"/>
                </a:cubicBezTo>
              </a:path>
              <a:path w="2779" h="894">
                <a:moveTo>
                  <a:pt x="10567" y="8285"/>
                </a:moveTo>
                <a:cubicBezTo>
                  <a:pt x="10655" y="8285"/>
                  <a:pt x="10731" y="8281"/>
                  <a:pt x="10815" y="8310"/>
                </a:cubicBezTo>
                <a:cubicBezTo>
                  <a:pt x="10894" y="8337"/>
                  <a:pt x="10956" y="8384"/>
                  <a:pt x="11038" y="8384"/>
                </a:cubicBezTo>
                <a:cubicBezTo>
                  <a:pt x="11063" y="8384"/>
                  <a:pt x="11071" y="8384"/>
                  <a:pt x="11063" y="8409"/>
                </a:cubicBezTo>
              </a:path>
              <a:path w="2779" h="894">
                <a:moveTo>
                  <a:pt x="10666" y="8632"/>
                </a:moveTo>
                <a:cubicBezTo>
                  <a:pt x="10782" y="8632"/>
                  <a:pt x="10897" y="8632"/>
                  <a:pt x="11013" y="8632"/>
                </a:cubicBezTo>
              </a:path>
              <a:path w="2779" h="894">
                <a:moveTo>
                  <a:pt x="11410" y="8161"/>
                </a:moveTo>
                <a:cubicBezTo>
                  <a:pt x="11410" y="8343"/>
                  <a:pt x="11410" y="8524"/>
                  <a:pt x="11410" y="8706"/>
                </a:cubicBezTo>
                <a:cubicBezTo>
                  <a:pt x="11439" y="8631"/>
                  <a:pt x="11456" y="8572"/>
                  <a:pt x="11509" y="8508"/>
                </a:cubicBezTo>
                <a:cubicBezTo>
                  <a:pt x="11547" y="8462"/>
                  <a:pt x="11605" y="8421"/>
                  <a:pt x="11633" y="8384"/>
                </a:cubicBezTo>
                <a:cubicBezTo>
                  <a:pt x="11665" y="8342"/>
                  <a:pt x="11700" y="8323"/>
                  <a:pt x="11733" y="8285"/>
                </a:cubicBezTo>
                <a:cubicBezTo>
                  <a:pt x="11755" y="8260"/>
                  <a:pt x="11799" y="8250"/>
                  <a:pt x="11807" y="8235"/>
                </a:cubicBezTo>
                <a:cubicBezTo>
                  <a:pt x="11818" y="8213"/>
                  <a:pt x="11855" y="8189"/>
                  <a:pt x="11881" y="8186"/>
                </a:cubicBezTo>
                <a:cubicBezTo>
                  <a:pt x="11945" y="8178"/>
                  <a:pt x="12015" y="8186"/>
                  <a:pt x="12080" y="8186"/>
                </a:cubicBezTo>
                <a:cubicBezTo>
                  <a:pt x="12080" y="8393"/>
                  <a:pt x="12080" y="8599"/>
                  <a:pt x="12080" y="88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45040" y="2544840"/>
            <a:ext cx="1428840" cy="482400"/>
          </a:xfrm>
          <a:custGeom>
            <a:avLst/>
            <a:gdLst/>
            <a:ahLst/>
            <a:rect l="l" t="t" r="r" b="b"/>
            <a:pathLst>
              <a:path w="3969" h="1341">
                <a:moveTo>
                  <a:pt x="14114" y="7417"/>
                </a:moveTo>
                <a:cubicBezTo>
                  <a:pt x="14188" y="7417"/>
                  <a:pt x="14263" y="7417"/>
                  <a:pt x="14337" y="7417"/>
                </a:cubicBezTo>
                <a:cubicBezTo>
                  <a:pt x="14337" y="7515"/>
                  <a:pt x="14371" y="7685"/>
                  <a:pt x="14312" y="7764"/>
                </a:cubicBezTo>
                <a:cubicBezTo>
                  <a:pt x="14291" y="7793"/>
                  <a:pt x="14143" y="7947"/>
                  <a:pt x="14114" y="7962"/>
                </a:cubicBezTo>
                <a:cubicBezTo>
                  <a:pt x="14062" y="7989"/>
                  <a:pt x="14058" y="7981"/>
                  <a:pt x="14015" y="8037"/>
                </a:cubicBezTo>
                <a:cubicBezTo>
                  <a:pt x="14213" y="8037"/>
                  <a:pt x="14412" y="8037"/>
                  <a:pt x="14610" y="8037"/>
                </a:cubicBezTo>
              </a:path>
              <a:path w="3969" h="1341">
                <a:moveTo>
                  <a:pt x="14784" y="7367"/>
                </a:moveTo>
                <a:cubicBezTo>
                  <a:pt x="14784" y="7487"/>
                  <a:pt x="14730" y="7927"/>
                  <a:pt x="14808" y="7987"/>
                </a:cubicBezTo>
                <a:cubicBezTo>
                  <a:pt x="14850" y="8019"/>
                  <a:pt x="14876" y="8012"/>
                  <a:pt x="14932" y="8012"/>
                </a:cubicBezTo>
                <a:cubicBezTo>
                  <a:pt x="14994" y="8012"/>
                  <a:pt x="15053" y="8024"/>
                  <a:pt x="15081" y="7987"/>
                </a:cubicBezTo>
                <a:cubicBezTo>
                  <a:pt x="15089" y="7977"/>
                  <a:pt x="15154" y="7914"/>
                  <a:pt x="15156" y="7913"/>
                </a:cubicBezTo>
                <a:cubicBezTo>
                  <a:pt x="15186" y="7892"/>
                  <a:pt x="15180" y="7888"/>
                  <a:pt x="15180" y="7838"/>
                </a:cubicBezTo>
                <a:cubicBezTo>
                  <a:pt x="15180" y="7793"/>
                  <a:pt x="15186" y="7774"/>
                  <a:pt x="15156" y="7739"/>
                </a:cubicBezTo>
                <a:cubicBezTo>
                  <a:pt x="15120" y="7698"/>
                  <a:pt x="15083" y="7689"/>
                  <a:pt x="15032" y="7689"/>
                </a:cubicBezTo>
                <a:cubicBezTo>
                  <a:pt x="15024" y="7689"/>
                  <a:pt x="15015" y="7689"/>
                  <a:pt x="15007" y="7689"/>
                </a:cubicBezTo>
                <a:cubicBezTo>
                  <a:pt x="15007" y="7764"/>
                  <a:pt x="15007" y="7838"/>
                  <a:pt x="15007" y="7913"/>
                </a:cubicBezTo>
              </a:path>
              <a:path w="3969" h="1341">
                <a:moveTo>
                  <a:pt x="15453" y="7491"/>
                </a:moveTo>
                <a:cubicBezTo>
                  <a:pt x="15585" y="7491"/>
                  <a:pt x="15718" y="7491"/>
                  <a:pt x="15850" y="7491"/>
                </a:cubicBezTo>
              </a:path>
              <a:path w="3969" h="1341">
                <a:moveTo>
                  <a:pt x="15528" y="7615"/>
                </a:moveTo>
                <a:cubicBezTo>
                  <a:pt x="15602" y="7615"/>
                  <a:pt x="15677" y="7615"/>
                  <a:pt x="15751" y="7615"/>
                </a:cubicBezTo>
              </a:path>
              <a:path w="3969" h="1341">
                <a:moveTo>
                  <a:pt x="16222" y="7441"/>
                </a:moveTo>
                <a:cubicBezTo>
                  <a:pt x="16222" y="7388"/>
                  <a:pt x="16234" y="7380"/>
                  <a:pt x="16272" y="7342"/>
                </a:cubicBezTo>
                <a:cubicBezTo>
                  <a:pt x="16302" y="7312"/>
                  <a:pt x="16359" y="7280"/>
                  <a:pt x="16396" y="7268"/>
                </a:cubicBezTo>
                <a:cubicBezTo>
                  <a:pt x="16422" y="7259"/>
                  <a:pt x="16467" y="7268"/>
                  <a:pt x="16495" y="7268"/>
                </a:cubicBezTo>
                <a:cubicBezTo>
                  <a:pt x="16495" y="7353"/>
                  <a:pt x="16525" y="7493"/>
                  <a:pt x="16470" y="7565"/>
                </a:cubicBezTo>
                <a:cubicBezTo>
                  <a:pt x="16444" y="7600"/>
                  <a:pt x="16389" y="7648"/>
                  <a:pt x="16371" y="7689"/>
                </a:cubicBezTo>
                <a:cubicBezTo>
                  <a:pt x="16361" y="7711"/>
                  <a:pt x="16330" y="7728"/>
                  <a:pt x="16297" y="7739"/>
                </a:cubicBezTo>
                <a:cubicBezTo>
                  <a:pt x="16258" y="7752"/>
                  <a:pt x="16245" y="7772"/>
                  <a:pt x="16222" y="7789"/>
                </a:cubicBezTo>
                <a:cubicBezTo>
                  <a:pt x="16207" y="7800"/>
                  <a:pt x="16174" y="7870"/>
                  <a:pt x="16197" y="7888"/>
                </a:cubicBezTo>
                <a:cubicBezTo>
                  <a:pt x="16245" y="7926"/>
                  <a:pt x="16367" y="7913"/>
                  <a:pt x="16421" y="7913"/>
                </a:cubicBezTo>
                <a:cubicBezTo>
                  <a:pt x="16545" y="7913"/>
                  <a:pt x="16669" y="7913"/>
                  <a:pt x="16793" y="7913"/>
                </a:cubicBezTo>
              </a:path>
              <a:path w="3969" h="1341">
                <a:moveTo>
                  <a:pt x="16842" y="7144"/>
                </a:moveTo>
                <a:cubicBezTo>
                  <a:pt x="16842" y="7079"/>
                  <a:pt x="16842" y="7241"/>
                  <a:pt x="16842" y="7268"/>
                </a:cubicBezTo>
                <a:cubicBezTo>
                  <a:pt x="16842" y="7381"/>
                  <a:pt x="16790" y="7678"/>
                  <a:pt x="16867" y="7764"/>
                </a:cubicBezTo>
                <a:cubicBezTo>
                  <a:pt x="16901" y="7802"/>
                  <a:pt x="16932" y="7807"/>
                  <a:pt x="16966" y="7838"/>
                </a:cubicBezTo>
                <a:cubicBezTo>
                  <a:pt x="16995" y="7864"/>
                  <a:pt x="17076" y="7882"/>
                  <a:pt x="17090" y="7888"/>
                </a:cubicBezTo>
                <a:cubicBezTo>
                  <a:pt x="17098" y="7888"/>
                  <a:pt x="17107" y="7888"/>
                  <a:pt x="17115" y="7888"/>
                </a:cubicBezTo>
              </a:path>
              <a:path w="3969" h="1341">
                <a:moveTo>
                  <a:pt x="17115" y="7417"/>
                </a:moveTo>
                <a:cubicBezTo>
                  <a:pt x="17115" y="7541"/>
                  <a:pt x="17115" y="7665"/>
                  <a:pt x="17115" y="7789"/>
                </a:cubicBezTo>
              </a:path>
              <a:path w="3969" h="1341">
                <a:moveTo>
                  <a:pt x="17264" y="7367"/>
                </a:moveTo>
                <a:cubicBezTo>
                  <a:pt x="17322" y="7367"/>
                  <a:pt x="17380" y="7367"/>
                  <a:pt x="17438" y="7367"/>
                </a:cubicBezTo>
                <a:cubicBezTo>
                  <a:pt x="17438" y="7420"/>
                  <a:pt x="17426" y="7428"/>
                  <a:pt x="17388" y="7466"/>
                </a:cubicBezTo>
                <a:cubicBezTo>
                  <a:pt x="17358" y="7496"/>
                  <a:pt x="17363" y="7501"/>
                  <a:pt x="17363" y="7541"/>
                </a:cubicBezTo>
                <a:cubicBezTo>
                  <a:pt x="17429" y="7541"/>
                  <a:pt x="17478" y="7549"/>
                  <a:pt x="17512" y="7565"/>
                </a:cubicBezTo>
                <a:cubicBezTo>
                  <a:pt x="17547" y="7582"/>
                  <a:pt x="17537" y="7592"/>
                  <a:pt x="17537" y="7640"/>
                </a:cubicBezTo>
                <a:cubicBezTo>
                  <a:pt x="17537" y="7705"/>
                  <a:pt x="17551" y="7784"/>
                  <a:pt x="17512" y="7813"/>
                </a:cubicBezTo>
                <a:cubicBezTo>
                  <a:pt x="17468" y="7846"/>
                  <a:pt x="17470" y="7863"/>
                  <a:pt x="17413" y="7863"/>
                </a:cubicBezTo>
                <a:cubicBezTo>
                  <a:pt x="17369" y="7863"/>
                  <a:pt x="17270" y="7883"/>
                  <a:pt x="17264" y="7838"/>
                </a:cubicBezTo>
                <a:cubicBezTo>
                  <a:pt x="17264" y="7830"/>
                  <a:pt x="17264" y="7821"/>
                  <a:pt x="17264" y="7813"/>
                </a:cubicBezTo>
              </a:path>
              <a:path w="3969" h="1341">
                <a:moveTo>
                  <a:pt x="17512" y="7069"/>
                </a:moveTo>
                <a:cubicBezTo>
                  <a:pt x="17566" y="7075"/>
                  <a:pt x="17583" y="7064"/>
                  <a:pt x="17636" y="7094"/>
                </a:cubicBezTo>
                <a:cubicBezTo>
                  <a:pt x="17724" y="7144"/>
                  <a:pt x="17748" y="7223"/>
                  <a:pt x="17810" y="7293"/>
                </a:cubicBezTo>
                <a:cubicBezTo>
                  <a:pt x="17864" y="7355"/>
                  <a:pt x="17921" y="7477"/>
                  <a:pt x="17934" y="7565"/>
                </a:cubicBezTo>
                <a:cubicBezTo>
                  <a:pt x="17959" y="7734"/>
                  <a:pt x="17977" y="7915"/>
                  <a:pt x="17983" y="8086"/>
                </a:cubicBezTo>
                <a:cubicBezTo>
                  <a:pt x="17987" y="8194"/>
                  <a:pt x="18004" y="8271"/>
                  <a:pt x="17934" y="8334"/>
                </a:cubicBezTo>
                <a:cubicBezTo>
                  <a:pt x="17892" y="8373"/>
                  <a:pt x="17855" y="8363"/>
                  <a:pt x="17810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8640" y="2751120"/>
            <a:ext cx="277560" cy="293760"/>
          </a:xfrm>
          <a:custGeom>
            <a:avLst/>
            <a:gdLst/>
            <a:ahLst/>
            <a:rect l="l" t="t" r="r" b="b"/>
            <a:pathLst>
              <a:path w="770" h="819">
                <a:moveTo>
                  <a:pt x="19025" y="7913"/>
                </a:moveTo>
                <a:cubicBezTo>
                  <a:pt x="19082" y="7913"/>
                  <a:pt x="19143" y="7896"/>
                  <a:pt x="19174" y="7962"/>
                </a:cubicBezTo>
                <a:cubicBezTo>
                  <a:pt x="19227" y="8076"/>
                  <a:pt x="19316" y="8242"/>
                  <a:pt x="19348" y="8359"/>
                </a:cubicBezTo>
                <a:cubicBezTo>
                  <a:pt x="19368" y="8432"/>
                  <a:pt x="19319" y="8440"/>
                  <a:pt x="19372" y="8458"/>
                </a:cubicBezTo>
                <a:cubicBezTo>
                  <a:pt x="19423" y="8306"/>
                  <a:pt x="19478" y="8168"/>
                  <a:pt x="19571" y="8037"/>
                </a:cubicBezTo>
                <a:cubicBezTo>
                  <a:pt x="19643" y="7936"/>
                  <a:pt x="19758" y="7868"/>
                  <a:pt x="19769" y="7739"/>
                </a:cubicBezTo>
                <a:cubicBezTo>
                  <a:pt x="19772" y="7703"/>
                  <a:pt x="19787" y="7675"/>
                  <a:pt x="19794" y="76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60720" y="4741920"/>
            <a:ext cx="357120" cy="206280"/>
          </a:xfrm>
          <a:custGeom>
            <a:avLst/>
            <a:gdLst/>
            <a:ahLst/>
            <a:rect l="l" t="t" r="r" b="b"/>
            <a:pathLst>
              <a:path w="993" h="572">
                <a:moveTo>
                  <a:pt x="6003" y="13171"/>
                </a:moveTo>
                <a:cubicBezTo>
                  <a:pt x="6334" y="13171"/>
                  <a:pt x="6664" y="13171"/>
                  <a:pt x="6995" y="13171"/>
                </a:cubicBezTo>
              </a:path>
              <a:path w="993" h="572">
                <a:moveTo>
                  <a:pt x="6424" y="13345"/>
                </a:moveTo>
                <a:cubicBezTo>
                  <a:pt x="6388" y="13358"/>
                  <a:pt x="6400" y="13375"/>
                  <a:pt x="6400" y="13419"/>
                </a:cubicBezTo>
                <a:cubicBezTo>
                  <a:pt x="6400" y="13444"/>
                  <a:pt x="6400" y="13469"/>
                  <a:pt x="6400" y="13494"/>
                </a:cubicBezTo>
                <a:cubicBezTo>
                  <a:pt x="6476" y="13494"/>
                  <a:pt x="6594" y="13524"/>
                  <a:pt x="6623" y="13444"/>
                </a:cubicBezTo>
                <a:cubicBezTo>
                  <a:pt x="6629" y="13427"/>
                  <a:pt x="6623" y="13282"/>
                  <a:pt x="6623" y="13345"/>
                </a:cubicBezTo>
                <a:cubicBezTo>
                  <a:pt x="6623" y="13477"/>
                  <a:pt x="6623" y="13610"/>
                  <a:pt x="6623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4348080"/>
            <a:ext cx="411480" cy="716040"/>
          </a:xfrm>
          <a:custGeom>
            <a:avLst/>
            <a:gdLst/>
            <a:ahLst/>
            <a:rect l="l" t="t" r="r" b="b"/>
            <a:pathLst>
              <a:path w="1142" h="1985">
                <a:moveTo>
                  <a:pt x="3299" y="13295"/>
                </a:moveTo>
                <a:cubicBezTo>
                  <a:pt x="3299" y="13270"/>
                  <a:pt x="3299" y="13246"/>
                  <a:pt x="3299" y="13221"/>
                </a:cubicBezTo>
                <a:cubicBezTo>
                  <a:pt x="3679" y="13221"/>
                  <a:pt x="4060" y="13221"/>
                  <a:pt x="4440" y="13221"/>
                </a:cubicBezTo>
              </a:path>
              <a:path w="1142" h="1985">
                <a:moveTo>
                  <a:pt x="3746" y="13444"/>
                </a:moveTo>
                <a:cubicBezTo>
                  <a:pt x="3735" y="13499"/>
                  <a:pt x="3726" y="13569"/>
                  <a:pt x="3696" y="13618"/>
                </a:cubicBezTo>
                <a:cubicBezTo>
                  <a:pt x="3669" y="13661"/>
                  <a:pt x="3671" y="13689"/>
                  <a:pt x="3671" y="13742"/>
                </a:cubicBezTo>
                <a:cubicBezTo>
                  <a:pt x="3726" y="13728"/>
                  <a:pt x="3757" y="13678"/>
                  <a:pt x="3820" y="13667"/>
                </a:cubicBezTo>
                <a:cubicBezTo>
                  <a:pt x="3865" y="13659"/>
                  <a:pt x="3922" y="13667"/>
                  <a:pt x="3969" y="13667"/>
                </a:cubicBezTo>
                <a:cubicBezTo>
                  <a:pt x="3969" y="13560"/>
                  <a:pt x="3969" y="13452"/>
                  <a:pt x="3969" y="13345"/>
                </a:cubicBezTo>
                <a:cubicBezTo>
                  <a:pt x="3969" y="13527"/>
                  <a:pt x="3969" y="13709"/>
                  <a:pt x="3969" y="13891"/>
                </a:cubicBezTo>
              </a:path>
              <a:path w="1142" h="1985">
                <a:moveTo>
                  <a:pt x="3398" y="12080"/>
                </a:moveTo>
                <a:cubicBezTo>
                  <a:pt x="3398" y="12105"/>
                  <a:pt x="3398" y="12113"/>
                  <a:pt x="3398" y="12129"/>
                </a:cubicBezTo>
                <a:cubicBezTo>
                  <a:pt x="3412" y="12146"/>
                  <a:pt x="3430" y="12173"/>
                  <a:pt x="3448" y="12204"/>
                </a:cubicBezTo>
                <a:cubicBezTo>
                  <a:pt x="3485" y="12230"/>
                  <a:pt x="3502" y="12230"/>
                  <a:pt x="3522" y="12278"/>
                </a:cubicBezTo>
                <a:cubicBezTo>
                  <a:pt x="3522" y="12286"/>
                  <a:pt x="3522" y="12295"/>
                  <a:pt x="3522" y="12303"/>
                </a:cubicBezTo>
                <a:cubicBezTo>
                  <a:pt x="3528" y="12312"/>
                  <a:pt x="3566" y="12344"/>
                  <a:pt x="3572" y="12353"/>
                </a:cubicBezTo>
                <a:cubicBezTo>
                  <a:pt x="3577" y="12395"/>
                  <a:pt x="3591" y="12414"/>
                  <a:pt x="3597" y="12452"/>
                </a:cubicBezTo>
                <a:cubicBezTo>
                  <a:pt x="3607" y="12514"/>
                  <a:pt x="3597" y="12587"/>
                  <a:pt x="3597" y="12650"/>
                </a:cubicBezTo>
                <a:cubicBezTo>
                  <a:pt x="3612" y="12670"/>
                  <a:pt x="3632" y="12684"/>
                  <a:pt x="3646" y="12725"/>
                </a:cubicBezTo>
                <a:cubicBezTo>
                  <a:pt x="3646" y="12733"/>
                  <a:pt x="3646" y="12742"/>
                  <a:pt x="3646" y="12750"/>
                </a:cubicBezTo>
                <a:cubicBezTo>
                  <a:pt x="3661" y="12775"/>
                  <a:pt x="3668" y="12771"/>
                  <a:pt x="3671" y="12824"/>
                </a:cubicBezTo>
                <a:cubicBezTo>
                  <a:pt x="3676" y="12910"/>
                  <a:pt x="3684" y="12999"/>
                  <a:pt x="3696" y="13072"/>
                </a:cubicBezTo>
                <a:cubicBezTo>
                  <a:pt x="3696" y="13097"/>
                  <a:pt x="3696" y="13105"/>
                  <a:pt x="3696" y="13122"/>
                </a:cubicBezTo>
                <a:cubicBezTo>
                  <a:pt x="3711" y="13147"/>
                  <a:pt x="3717" y="13143"/>
                  <a:pt x="3721" y="13196"/>
                </a:cubicBezTo>
                <a:cubicBezTo>
                  <a:pt x="3721" y="13204"/>
                  <a:pt x="3721" y="13213"/>
                  <a:pt x="3721" y="13221"/>
                </a:cubicBezTo>
                <a:cubicBezTo>
                  <a:pt x="3753" y="13240"/>
                  <a:pt x="3747" y="13239"/>
                  <a:pt x="3795" y="13246"/>
                </a:cubicBezTo>
                <a:cubicBezTo>
                  <a:pt x="3795" y="13329"/>
                  <a:pt x="3807" y="13392"/>
                  <a:pt x="3820" y="13469"/>
                </a:cubicBezTo>
                <a:cubicBezTo>
                  <a:pt x="3841" y="13598"/>
                  <a:pt x="3825" y="13747"/>
                  <a:pt x="3845" y="13866"/>
                </a:cubicBezTo>
                <a:cubicBezTo>
                  <a:pt x="3855" y="13928"/>
                  <a:pt x="3845" y="14001"/>
                  <a:pt x="3845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17920" y="4616280"/>
            <a:ext cx="519120" cy="233640"/>
          </a:xfrm>
          <a:custGeom>
            <a:avLst/>
            <a:gdLst/>
            <a:ahLst/>
            <a:rect l="l" t="t" r="r" b="b"/>
            <a:pathLst>
              <a:path w="1440" h="646">
                <a:moveTo>
                  <a:pt x="10815" y="12898"/>
                </a:moveTo>
                <a:cubicBezTo>
                  <a:pt x="10876" y="12898"/>
                  <a:pt x="10896" y="12877"/>
                  <a:pt x="10964" y="12874"/>
                </a:cubicBezTo>
                <a:cubicBezTo>
                  <a:pt x="11038" y="12870"/>
                  <a:pt x="11113" y="12874"/>
                  <a:pt x="11187" y="12874"/>
                </a:cubicBezTo>
              </a:path>
              <a:path w="1440" h="646">
                <a:moveTo>
                  <a:pt x="10864" y="13246"/>
                </a:moveTo>
                <a:cubicBezTo>
                  <a:pt x="10980" y="13246"/>
                  <a:pt x="11096" y="13246"/>
                  <a:pt x="11212" y="13246"/>
                </a:cubicBezTo>
              </a:path>
              <a:path w="1440" h="646">
                <a:moveTo>
                  <a:pt x="9773" y="12898"/>
                </a:moveTo>
                <a:cubicBezTo>
                  <a:pt x="9798" y="12940"/>
                  <a:pt x="9854" y="13025"/>
                  <a:pt x="9872" y="13072"/>
                </a:cubicBezTo>
                <a:cubicBezTo>
                  <a:pt x="9884" y="13104"/>
                  <a:pt x="9890" y="13190"/>
                  <a:pt x="9897" y="13221"/>
                </a:cubicBezTo>
                <a:cubicBezTo>
                  <a:pt x="9906" y="13265"/>
                  <a:pt x="9897" y="13325"/>
                  <a:pt x="9897" y="13370"/>
                </a:cubicBezTo>
                <a:cubicBezTo>
                  <a:pt x="9897" y="13446"/>
                  <a:pt x="9897" y="13309"/>
                  <a:pt x="9897" y="13295"/>
                </a:cubicBezTo>
                <a:cubicBezTo>
                  <a:pt x="9897" y="13221"/>
                  <a:pt x="9882" y="13137"/>
                  <a:pt x="9922" y="13072"/>
                </a:cubicBezTo>
                <a:cubicBezTo>
                  <a:pt x="9940" y="13043"/>
                  <a:pt x="9988" y="12987"/>
                  <a:pt x="9996" y="12973"/>
                </a:cubicBezTo>
                <a:cubicBezTo>
                  <a:pt x="10012" y="12944"/>
                  <a:pt x="10014" y="12933"/>
                  <a:pt x="10046" y="12898"/>
                </a:cubicBezTo>
                <a:cubicBezTo>
                  <a:pt x="10067" y="12875"/>
                  <a:pt x="10134" y="12866"/>
                  <a:pt x="10145" y="12849"/>
                </a:cubicBezTo>
                <a:cubicBezTo>
                  <a:pt x="10166" y="12817"/>
                  <a:pt x="10169" y="12824"/>
                  <a:pt x="10220" y="12824"/>
                </a:cubicBezTo>
                <a:cubicBezTo>
                  <a:pt x="10252" y="12824"/>
                  <a:pt x="10331" y="12807"/>
                  <a:pt x="10344" y="12849"/>
                </a:cubicBezTo>
                <a:cubicBezTo>
                  <a:pt x="10378" y="12958"/>
                  <a:pt x="10344" y="13131"/>
                  <a:pt x="10344" y="13246"/>
                </a:cubicBezTo>
                <a:cubicBezTo>
                  <a:pt x="10344" y="13127"/>
                  <a:pt x="10334" y="13002"/>
                  <a:pt x="10368" y="12898"/>
                </a:cubicBezTo>
                <a:cubicBezTo>
                  <a:pt x="10377" y="12872"/>
                  <a:pt x="10387" y="12853"/>
                  <a:pt x="10418" y="12849"/>
                </a:cubicBezTo>
                <a:cubicBezTo>
                  <a:pt x="10486" y="12840"/>
                  <a:pt x="10612" y="12837"/>
                  <a:pt x="10641" y="12874"/>
                </a:cubicBezTo>
                <a:cubicBezTo>
                  <a:pt x="10665" y="12905"/>
                  <a:pt x="10687" y="12934"/>
                  <a:pt x="10691" y="12973"/>
                </a:cubicBezTo>
                <a:cubicBezTo>
                  <a:pt x="10709" y="13134"/>
                  <a:pt x="10691" y="13306"/>
                  <a:pt x="10691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60880" y="4491000"/>
            <a:ext cx="189000" cy="322200"/>
          </a:xfrm>
          <a:custGeom>
            <a:avLst/>
            <a:gdLst/>
            <a:ahLst/>
            <a:rect l="l" t="t" r="r" b="b"/>
            <a:pathLst>
              <a:path w="522" h="894">
                <a:moveTo>
                  <a:pt x="11857" y="12477"/>
                </a:moveTo>
                <a:cubicBezTo>
                  <a:pt x="11787" y="12494"/>
                  <a:pt x="11708" y="12537"/>
                  <a:pt x="11658" y="12601"/>
                </a:cubicBezTo>
                <a:cubicBezTo>
                  <a:pt x="11591" y="12688"/>
                  <a:pt x="11605" y="12725"/>
                  <a:pt x="11584" y="12824"/>
                </a:cubicBezTo>
                <a:cubicBezTo>
                  <a:pt x="11567" y="12905"/>
                  <a:pt x="11559" y="12963"/>
                  <a:pt x="11559" y="13047"/>
                </a:cubicBezTo>
                <a:cubicBezTo>
                  <a:pt x="11559" y="13105"/>
                  <a:pt x="11559" y="13163"/>
                  <a:pt x="11559" y="13221"/>
                </a:cubicBezTo>
                <a:cubicBezTo>
                  <a:pt x="11661" y="13221"/>
                  <a:pt x="11907" y="13264"/>
                  <a:pt x="11981" y="13196"/>
                </a:cubicBezTo>
                <a:cubicBezTo>
                  <a:pt x="12013" y="13167"/>
                  <a:pt x="12039" y="13143"/>
                  <a:pt x="12055" y="13122"/>
                </a:cubicBezTo>
                <a:cubicBezTo>
                  <a:pt x="12084" y="13084"/>
                  <a:pt x="12080" y="13070"/>
                  <a:pt x="12080" y="13022"/>
                </a:cubicBezTo>
                <a:cubicBezTo>
                  <a:pt x="12080" y="12981"/>
                  <a:pt x="12080" y="12939"/>
                  <a:pt x="12080" y="12898"/>
                </a:cubicBezTo>
                <a:cubicBezTo>
                  <a:pt x="12014" y="12898"/>
                  <a:pt x="11947" y="12898"/>
                  <a:pt x="11881" y="12898"/>
                </a:cubicBezTo>
                <a:cubicBezTo>
                  <a:pt x="11881" y="13055"/>
                  <a:pt x="11881" y="13213"/>
                  <a:pt x="11881" y="133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Mulitplica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36 = 9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) 25n = 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) 60 = 5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08160" y="812880"/>
            <a:ext cx="401760" cy="625320"/>
          </a:xfrm>
          <a:custGeom>
            <a:avLst/>
            <a:gdLst/>
            <a:ahLst/>
            <a:rect l="l" t="t" r="r" b="b"/>
            <a:pathLst>
              <a:path w="1117" h="1738">
                <a:moveTo>
                  <a:pt x="5854" y="3249"/>
                </a:moveTo>
                <a:cubicBezTo>
                  <a:pt x="6226" y="3249"/>
                  <a:pt x="6598" y="3249"/>
                  <a:pt x="6970" y="3249"/>
                </a:cubicBezTo>
              </a:path>
              <a:path w="1117" h="1738">
                <a:moveTo>
                  <a:pt x="6524" y="3473"/>
                </a:moveTo>
                <a:cubicBezTo>
                  <a:pt x="6467" y="3473"/>
                  <a:pt x="6449" y="3461"/>
                  <a:pt x="6424" y="3448"/>
                </a:cubicBezTo>
                <a:cubicBezTo>
                  <a:pt x="6374" y="3422"/>
                  <a:pt x="6188" y="3442"/>
                  <a:pt x="6152" y="3473"/>
                </a:cubicBezTo>
                <a:cubicBezTo>
                  <a:pt x="6100" y="3519"/>
                  <a:pt x="6102" y="3488"/>
                  <a:pt x="6102" y="3572"/>
                </a:cubicBezTo>
                <a:cubicBezTo>
                  <a:pt x="6102" y="3646"/>
                  <a:pt x="6104" y="3638"/>
                  <a:pt x="6152" y="3671"/>
                </a:cubicBezTo>
                <a:cubicBezTo>
                  <a:pt x="6191" y="3698"/>
                  <a:pt x="6201" y="3696"/>
                  <a:pt x="6251" y="3696"/>
                </a:cubicBezTo>
                <a:cubicBezTo>
                  <a:pt x="6297" y="3696"/>
                  <a:pt x="6315" y="3702"/>
                  <a:pt x="6350" y="3671"/>
                </a:cubicBezTo>
                <a:cubicBezTo>
                  <a:pt x="6386" y="3639"/>
                  <a:pt x="6413" y="3565"/>
                  <a:pt x="6449" y="3547"/>
                </a:cubicBezTo>
                <a:cubicBezTo>
                  <a:pt x="6479" y="3532"/>
                  <a:pt x="6474" y="3440"/>
                  <a:pt x="6474" y="3473"/>
                </a:cubicBezTo>
                <a:cubicBezTo>
                  <a:pt x="6474" y="3647"/>
                  <a:pt x="6474" y="3820"/>
                  <a:pt x="6474" y="3994"/>
                </a:cubicBezTo>
              </a:path>
              <a:path w="1117" h="1738">
                <a:moveTo>
                  <a:pt x="5928" y="2332"/>
                </a:moveTo>
                <a:cubicBezTo>
                  <a:pt x="5928" y="2324"/>
                  <a:pt x="5928" y="2315"/>
                  <a:pt x="5928" y="2307"/>
                </a:cubicBezTo>
                <a:cubicBezTo>
                  <a:pt x="5910" y="2282"/>
                  <a:pt x="5912" y="2306"/>
                  <a:pt x="5904" y="2257"/>
                </a:cubicBezTo>
                <a:cubicBezTo>
                  <a:pt x="5904" y="2401"/>
                  <a:pt x="5906" y="2541"/>
                  <a:pt x="5928" y="2679"/>
                </a:cubicBezTo>
                <a:cubicBezTo>
                  <a:pt x="5937" y="2735"/>
                  <a:pt x="5945" y="2779"/>
                  <a:pt x="5953" y="2828"/>
                </a:cubicBezTo>
                <a:cubicBezTo>
                  <a:pt x="5968" y="2914"/>
                  <a:pt x="5953" y="3013"/>
                  <a:pt x="5953" y="3101"/>
                </a:cubicBezTo>
                <a:cubicBezTo>
                  <a:pt x="5964" y="3115"/>
                  <a:pt x="5993" y="3141"/>
                  <a:pt x="6003" y="3175"/>
                </a:cubicBezTo>
                <a:cubicBezTo>
                  <a:pt x="6003" y="3183"/>
                  <a:pt x="6003" y="3192"/>
                  <a:pt x="6003" y="3200"/>
                </a:cubicBezTo>
                <a:cubicBezTo>
                  <a:pt x="6019" y="3216"/>
                  <a:pt x="6059" y="3282"/>
                  <a:pt x="6077" y="3299"/>
                </a:cubicBezTo>
                <a:cubicBezTo>
                  <a:pt x="6128" y="3346"/>
                  <a:pt x="6173" y="3395"/>
                  <a:pt x="6226" y="3448"/>
                </a:cubicBezTo>
                <a:cubicBezTo>
                  <a:pt x="6254" y="3476"/>
                  <a:pt x="6260" y="3494"/>
                  <a:pt x="6276" y="3522"/>
                </a:cubicBezTo>
                <a:cubicBezTo>
                  <a:pt x="6295" y="3542"/>
                  <a:pt x="6306" y="3561"/>
                  <a:pt x="6325" y="3597"/>
                </a:cubicBezTo>
                <a:cubicBezTo>
                  <a:pt x="6349" y="3642"/>
                  <a:pt x="6356" y="3683"/>
                  <a:pt x="6375" y="3721"/>
                </a:cubicBezTo>
                <a:cubicBezTo>
                  <a:pt x="6397" y="3764"/>
                  <a:pt x="6397" y="3768"/>
                  <a:pt x="6400" y="3820"/>
                </a:cubicBezTo>
                <a:cubicBezTo>
                  <a:pt x="6401" y="3844"/>
                  <a:pt x="6400" y="3869"/>
                  <a:pt x="6400" y="38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89160" y="884160"/>
            <a:ext cx="152640" cy="258840"/>
          </a:xfrm>
          <a:custGeom>
            <a:avLst/>
            <a:gdLst/>
            <a:ahLst/>
            <a:rect l="l" t="t" r="r" b="b"/>
            <a:pathLst>
              <a:path w="423" h="720">
                <a:moveTo>
                  <a:pt x="8582" y="2555"/>
                </a:moveTo>
                <a:cubicBezTo>
                  <a:pt x="8582" y="2616"/>
                  <a:pt x="8592" y="2650"/>
                  <a:pt x="8607" y="2679"/>
                </a:cubicBezTo>
                <a:cubicBezTo>
                  <a:pt x="8626" y="2717"/>
                  <a:pt x="8650" y="2704"/>
                  <a:pt x="8706" y="2704"/>
                </a:cubicBezTo>
                <a:cubicBezTo>
                  <a:pt x="8805" y="2704"/>
                  <a:pt x="8905" y="2704"/>
                  <a:pt x="9004" y="2704"/>
                </a:cubicBezTo>
                <a:cubicBezTo>
                  <a:pt x="9004" y="2653"/>
                  <a:pt x="9004" y="2455"/>
                  <a:pt x="9004" y="2480"/>
                </a:cubicBezTo>
                <a:cubicBezTo>
                  <a:pt x="9004" y="2712"/>
                  <a:pt x="9004" y="2943"/>
                  <a:pt x="9004" y="31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38360" y="946080"/>
            <a:ext cx="106560" cy="73080"/>
          </a:xfrm>
          <a:custGeom>
            <a:avLst/>
            <a:gdLst/>
            <a:ahLst/>
            <a:rect l="l" t="t" r="r" b="b"/>
            <a:pathLst>
              <a:path w="298" h="200">
                <a:moveTo>
                  <a:pt x="9575" y="2679"/>
                </a:moveTo>
                <a:cubicBezTo>
                  <a:pt x="9575" y="2671"/>
                  <a:pt x="9575" y="2662"/>
                  <a:pt x="9575" y="2654"/>
                </a:cubicBezTo>
                <a:cubicBezTo>
                  <a:pt x="9504" y="2630"/>
                  <a:pt x="9593" y="2629"/>
                  <a:pt x="9624" y="2629"/>
                </a:cubicBezTo>
                <a:cubicBezTo>
                  <a:pt x="9679" y="2629"/>
                  <a:pt x="9783" y="2610"/>
                  <a:pt x="9798" y="2654"/>
                </a:cubicBezTo>
              </a:path>
              <a:path w="298" h="200">
                <a:moveTo>
                  <a:pt x="9550" y="2778"/>
                </a:moveTo>
                <a:cubicBezTo>
                  <a:pt x="9550" y="2803"/>
                  <a:pt x="9550" y="2811"/>
                  <a:pt x="9550" y="2828"/>
                </a:cubicBezTo>
                <a:cubicBezTo>
                  <a:pt x="9649" y="2828"/>
                  <a:pt x="9748" y="2828"/>
                  <a:pt x="9847" y="28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68840" y="928800"/>
            <a:ext cx="160200" cy="196560"/>
          </a:xfrm>
          <a:custGeom>
            <a:avLst/>
            <a:gdLst/>
            <a:ahLst/>
            <a:rect l="l" t="t" r="r" b="b"/>
            <a:pathLst>
              <a:path w="447" h="546">
                <a:moveTo>
                  <a:pt x="10468" y="2580"/>
                </a:moveTo>
                <a:cubicBezTo>
                  <a:pt x="10468" y="2754"/>
                  <a:pt x="10468" y="2927"/>
                  <a:pt x="10468" y="3101"/>
                </a:cubicBezTo>
              </a:path>
              <a:path w="447" h="546">
                <a:moveTo>
                  <a:pt x="10641" y="2902"/>
                </a:moveTo>
                <a:cubicBezTo>
                  <a:pt x="10691" y="2902"/>
                  <a:pt x="10740" y="2902"/>
                  <a:pt x="10790" y="2902"/>
                </a:cubicBezTo>
                <a:cubicBezTo>
                  <a:pt x="10803" y="2942"/>
                  <a:pt x="10802" y="2912"/>
                  <a:pt x="10815" y="2952"/>
                </a:cubicBezTo>
                <a:cubicBezTo>
                  <a:pt x="10853" y="2965"/>
                  <a:pt x="10840" y="2981"/>
                  <a:pt x="10840" y="3026"/>
                </a:cubicBezTo>
                <a:cubicBezTo>
                  <a:pt x="10840" y="3051"/>
                  <a:pt x="10840" y="3076"/>
                  <a:pt x="10840" y="3101"/>
                </a:cubicBezTo>
              </a:path>
              <a:path w="447" h="546">
                <a:moveTo>
                  <a:pt x="10914" y="2778"/>
                </a:moveTo>
                <a:cubicBezTo>
                  <a:pt x="10889" y="2778"/>
                  <a:pt x="10881" y="2778"/>
                  <a:pt x="10864" y="2778"/>
                </a:cubicBezTo>
                <a:cubicBezTo>
                  <a:pt x="10852" y="2826"/>
                  <a:pt x="10809" y="2834"/>
                  <a:pt x="10790" y="2877"/>
                </a:cubicBezTo>
                <a:cubicBezTo>
                  <a:pt x="10790" y="2885"/>
                  <a:pt x="10790" y="2894"/>
                  <a:pt x="10790" y="2902"/>
                </a:cubicBezTo>
                <a:cubicBezTo>
                  <a:pt x="10750" y="2915"/>
                  <a:pt x="10780" y="2914"/>
                  <a:pt x="10740" y="2927"/>
                </a:cubicBezTo>
                <a:cubicBezTo>
                  <a:pt x="10727" y="2967"/>
                  <a:pt x="10729" y="2937"/>
                  <a:pt x="10716" y="2977"/>
                </a:cubicBezTo>
                <a:cubicBezTo>
                  <a:pt x="10679" y="2986"/>
                  <a:pt x="10654" y="3013"/>
                  <a:pt x="10641" y="3051"/>
                </a:cubicBezTo>
                <a:cubicBezTo>
                  <a:pt x="10627" y="3094"/>
                  <a:pt x="10627" y="3092"/>
                  <a:pt x="10616" y="31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938160"/>
            <a:ext cx="696960" cy="196920"/>
          </a:xfrm>
          <a:custGeom>
            <a:avLst/>
            <a:gdLst/>
            <a:ahLst/>
            <a:rect l="l" t="t" r="r" b="b"/>
            <a:pathLst>
              <a:path w="1936" h="547">
                <a:moveTo>
                  <a:pt x="12278" y="2604"/>
                </a:moveTo>
                <a:cubicBezTo>
                  <a:pt x="12278" y="2660"/>
                  <a:pt x="12253" y="2794"/>
                  <a:pt x="12303" y="2828"/>
                </a:cubicBezTo>
                <a:cubicBezTo>
                  <a:pt x="12387" y="2886"/>
                  <a:pt x="12480" y="2877"/>
                  <a:pt x="12576" y="2877"/>
                </a:cubicBezTo>
                <a:cubicBezTo>
                  <a:pt x="12626" y="2877"/>
                  <a:pt x="12675" y="2877"/>
                  <a:pt x="12725" y="2877"/>
                </a:cubicBezTo>
                <a:cubicBezTo>
                  <a:pt x="12700" y="2845"/>
                  <a:pt x="12679" y="2833"/>
                  <a:pt x="12675" y="2803"/>
                </a:cubicBezTo>
                <a:cubicBezTo>
                  <a:pt x="12675" y="2803"/>
                  <a:pt x="12652" y="2731"/>
                  <a:pt x="12650" y="2729"/>
                </a:cubicBezTo>
                <a:cubicBezTo>
                  <a:pt x="12621" y="2705"/>
                  <a:pt x="12626" y="2680"/>
                  <a:pt x="12626" y="2629"/>
                </a:cubicBezTo>
                <a:cubicBezTo>
                  <a:pt x="12626" y="2568"/>
                  <a:pt x="12642" y="2752"/>
                  <a:pt x="12650" y="2778"/>
                </a:cubicBezTo>
                <a:cubicBezTo>
                  <a:pt x="12675" y="2864"/>
                  <a:pt x="12700" y="2911"/>
                  <a:pt x="12700" y="3001"/>
                </a:cubicBezTo>
                <a:cubicBezTo>
                  <a:pt x="12700" y="3044"/>
                  <a:pt x="12690" y="3039"/>
                  <a:pt x="12725" y="3051"/>
                </a:cubicBezTo>
              </a:path>
              <a:path w="1936" h="547">
                <a:moveTo>
                  <a:pt x="13047" y="2753"/>
                </a:moveTo>
                <a:cubicBezTo>
                  <a:pt x="13163" y="2753"/>
                  <a:pt x="13279" y="2753"/>
                  <a:pt x="13395" y="2753"/>
                </a:cubicBezTo>
              </a:path>
              <a:path w="1936" h="547">
                <a:moveTo>
                  <a:pt x="12973" y="2927"/>
                </a:moveTo>
                <a:cubicBezTo>
                  <a:pt x="13097" y="2927"/>
                  <a:pt x="13221" y="2927"/>
                  <a:pt x="13345" y="2927"/>
                </a:cubicBezTo>
              </a:path>
              <a:path w="1936" h="547">
                <a:moveTo>
                  <a:pt x="13667" y="2753"/>
                </a:moveTo>
                <a:cubicBezTo>
                  <a:pt x="13681" y="2714"/>
                  <a:pt x="13717" y="2729"/>
                  <a:pt x="13767" y="2729"/>
                </a:cubicBezTo>
                <a:cubicBezTo>
                  <a:pt x="13851" y="2729"/>
                  <a:pt x="13941" y="2728"/>
                  <a:pt x="14015" y="2778"/>
                </a:cubicBezTo>
                <a:cubicBezTo>
                  <a:pt x="14059" y="2808"/>
                  <a:pt x="14120" y="2904"/>
                  <a:pt x="14139" y="2952"/>
                </a:cubicBezTo>
                <a:cubicBezTo>
                  <a:pt x="14154" y="2990"/>
                  <a:pt x="14153" y="2996"/>
                  <a:pt x="14163" y="3026"/>
                </a:cubicBezTo>
              </a:path>
              <a:path w="1936" h="547">
                <a:moveTo>
                  <a:pt x="14213" y="2604"/>
                </a:moveTo>
                <a:cubicBezTo>
                  <a:pt x="14173" y="2604"/>
                  <a:pt x="14119" y="2594"/>
                  <a:pt x="14089" y="2629"/>
                </a:cubicBezTo>
                <a:cubicBezTo>
                  <a:pt x="14074" y="2646"/>
                  <a:pt x="14001" y="2733"/>
                  <a:pt x="13990" y="2753"/>
                </a:cubicBezTo>
                <a:cubicBezTo>
                  <a:pt x="13954" y="2816"/>
                  <a:pt x="13934" y="2890"/>
                  <a:pt x="13891" y="2952"/>
                </a:cubicBezTo>
                <a:cubicBezTo>
                  <a:pt x="13866" y="2989"/>
                  <a:pt x="13866" y="2981"/>
                  <a:pt x="13866" y="3026"/>
                </a:cubicBezTo>
                <a:cubicBezTo>
                  <a:pt x="13816" y="3038"/>
                  <a:pt x="13816" y="3050"/>
                  <a:pt x="13816" y="3101"/>
                </a:cubicBezTo>
                <a:cubicBezTo>
                  <a:pt x="13776" y="3114"/>
                  <a:pt x="13806" y="3112"/>
                  <a:pt x="13767" y="3125"/>
                </a:cubicBezTo>
                <a:cubicBezTo>
                  <a:pt x="13767" y="3150"/>
                  <a:pt x="13767" y="3158"/>
                  <a:pt x="13742" y="31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25360" y="1177920"/>
            <a:ext cx="482760" cy="216000"/>
          </a:xfrm>
          <a:custGeom>
            <a:avLst/>
            <a:gdLst/>
            <a:ahLst/>
            <a:rect l="l" t="t" r="r" b="b"/>
            <a:pathLst>
              <a:path w="1341" h="597">
                <a:moveTo>
                  <a:pt x="3125" y="3274"/>
                </a:moveTo>
                <a:cubicBezTo>
                  <a:pt x="3344" y="3274"/>
                  <a:pt x="3586" y="3241"/>
                  <a:pt x="3795" y="3299"/>
                </a:cubicBezTo>
                <a:cubicBezTo>
                  <a:pt x="3885" y="3324"/>
                  <a:pt x="3949" y="3349"/>
                  <a:pt x="4043" y="3349"/>
                </a:cubicBezTo>
                <a:cubicBezTo>
                  <a:pt x="4118" y="3349"/>
                  <a:pt x="4190" y="3373"/>
                  <a:pt x="4266" y="3373"/>
                </a:cubicBezTo>
                <a:cubicBezTo>
                  <a:pt x="4332" y="3373"/>
                  <a:pt x="4399" y="3373"/>
                  <a:pt x="4465" y="3373"/>
                </a:cubicBezTo>
              </a:path>
              <a:path w="1341" h="597">
                <a:moveTo>
                  <a:pt x="3944" y="3522"/>
                </a:moveTo>
                <a:cubicBezTo>
                  <a:pt x="3893" y="3522"/>
                  <a:pt x="3886" y="3511"/>
                  <a:pt x="3845" y="3497"/>
                </a:cubicBezTo>
                <a:cubicBezTo>
                  <a:pt x="3808" y="3485"/>
                  <a:pt x="3823" y="3473"/>
                  <a:pt x="3770" y="3473"/>
                </a:cubicBezTo>
                <a:cubicBezTo>
                  <a:pt x="3713" y="3473"/>
                  <a:pt x="3671" y="3464"/>
                  <a:pt x="3646" y="3497"/>
                </a:cubicBezTo>
                <a:cubicBezTo>
                  <a:pt x="3617" y="3535"/>
                  <a:pt x="3621" y="3549"/>
                  <a:pt x="3621" y="3597"/>
                </a:cubicBezTo>
                <a:cubicBezTo>
                  <a:pt x="3621" y="3605"/>
                  <a:pt x="3621" y="3613"/>
                  <a:pt x="3621" y="3621"/>
                </a:cubicBezTo>
                <a:cubicBezTo>
                  <a:pt x="3723" y="3621"/>
                  <a:pt x="3970" y="3670"/>
                  <a:pt x="4043" y="3597"/>
                </a:cubicBezTo>
                <a:cubicBezTo>
                  <a:pt x="4062" y="3578"/>
                  <a:pt x="4068" y="3561"/>
                  <a:pt x="4068" y="3522"/>
                </a:cubicBezTo>
                <a:cubicBezTo>
                  <a:pt x="4068" y="3497"/>
                  <a:pt x="4068" y="3489"/>
                  <a:pt x="4068" y="3473"/>
                </a:cubicBezTo>
                <a:cubicBezTo>
                  <a:pt x="4068" y="3605"/>
                  <a:pt x="4068" y="3738"/>
                  <a:pt x="4068" y="38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08120" y="2938320"/>
            <a:ext cx="1044720" cy="598680"/>
          </a:xfrm>
          <a:custGeom>
            <a:avLst/>
            <a:gdLst/>
            <a:ahLst/>
            <a:rect l="l" t="t" r="r" b="b"/>
            <a:pathLst>
              <a:path w="2903" h="1663">
                <a:moveTo>
                  <a:pt x="6300" y="8186"/>
                </a:moveTo>
                <a:cubicBezTo>
                  <a:pt x="6394" y="8186"/>
                  <a:pt x="6479" y="8163"/>
                  <a:pt x="6573" y="8161"/>
                </a:cubicBezTo>
                <a:cubicBezTo>
                  <a:pt x="6765" y="8156"/>
                  <a:pt x="6985" y="8132"/>
                  <a:pt x="7169" y="8186"/>
                </a:cubicBezTo>
                <a:cubicBezTo>
                  <a:pt x="7231" y="8204"/>
                  <a:pt x="7289" y="8242"/>
                  <a:pt x="7342" y="8260"/>
                </a:cubicBezTo>
                <a:cubicBezTo>
                  <a:pt x="7367" y="8260"/>
                  <a:pt x="7375" y="8260"/>
                  <a:pt x="7367" y="8285"/>
                </a:cubicBezTo>
              </a:path>
              <a:path w="2903" h="1663">
                <a:moveTo>
                  <a:pt x="6424" y="8409"/>
                </a:moveTo>
                <a:cubicBezTo>
                  <a:pt x="6424" y="8366"/>
                  <a:pt x="6429" y="8349"/>
                  <a:pt x="6474" y="8334"/>
                </a:cubicBezTo>
                <a:cubicBezTo>
                  <a:pt x="6513" y="8321"/>
                  <a:pt x="6581" y="8334"/>
                  <a:pt x="6623" y="8334"/>
                </a:cubicBezTo>
                <a:cubicBezTo>
                  <a:pt x="6623" y="8398"/>
                  <a:pt x="6620" y="8450"/>
                  <a:pt x="6598" y="8483"/>
                </a:cubicBezTo>
                <a:cubicBezTo>
                  <a:pt x="6564" y="8533"/>
                  <a:pt x="6562" y="8581"/>
                  <a:pt x="6524" y="8632"/>
                </a:cubicBezTo>
                <a:cubicBezTo>
                  <a:pt x="6490" y="8678"/>
                  <a:pt x="6451" y="8682"/>
                  <a:pt x="6424" y="8731"/>
                </a:cubicBezTo>
                <a:cubicBezTo>
                  <a:pt x="6390" y="8791"/>
                  <a:pt x="6386" y="8780"/>
                  <a:pt x="6350" y="8806"/>
                </a:cubicBezTo>
                <a:cubicBezTo>
                  <a:pt x="6313" y="8833"/>
                  <a:pt x="6309" y="8876"/>
                  <a:pt x="6276" y="8880"/>
                </a:cubicBezTo>
                <a:cubicBezTo>
                  <a:pt x="6268" y="8880"/>
                  <a:pt x="6259" y="8880"/>
                  <a:pt x="6251" y="8880"/>
                </a:cubicBezTo>
                <a:cubicBezTo>
                  <a:pt x="6280" y="8925"/>
                  <a:pt x="6381" y="8905"/>
                  <a:pt x="6449" y="8905"/>
                </a:cubicBezTo>
                <a:cubicBezTo>
                  <a:pt x="6565" y="8905"/>
                  <a:pt x="6680" y="8905"/>
                  <a:pt x="6796" y="8905"/>
                </a:cubicBezTo>
              </a:path>
              <a:path w="2903" h="1663">
                <a:moveTo>
                  <a:pt x="7218" y="8359"/>
                </a:moveTo>
                <a:cubicBezTo>
                  <a:pt x="7192" y="8320"/>
                  <a:pt x="7130" y="8334"/>
                  <a:pt x="7069" y="8334"/>
                </a:cubicBezTo>
                <a:cubicBezTo>
                  <a:pt x="7003" y="8334"/>
                  <a:pt x="6937" y="8334"/>
                  <a:pt x="6871" y="8334"/>
                </a:cubicBezTo>
                <a:cubicBezTo>
                  <a:pt x="6871" y="8384"/>
                  <a:pt x="6871" y="8433"/>
                  <a:pt x="6871" y="8483"/>
                </a:cubicBezTo>
                <a:cubicBezTo>
                  <a:pt x="6968" y="8483"/>
                  <a:pt x="7085" y="8479"/>
                  <a:pt x="7144" y="8508"/>
                </a:cubicBezTo>
                <a:cubicBezTo>
                  <a:pt x="7179" y="8525"/>
                  <a:pt x="7169" y="8534"/>
                  <a:pt x="7169" y="8582"/>
                </a:cubicBezTo>
                <a:cubicBezTo>
                  <a:pt x="7169" y="8659"/>
                  <a:pt x="7191" y="8819"/>
                  <a:pt x="7144" y="8855"/>
                </a:cubicBezTo>
                <a:cubicBezTo>
                  <a:pt x="7096" y="8891"/>
                  <a:pt x="7104" y="8900"/>
                  <a:pt x="7045" y="8905"/>
                </a:cubicBezTo>
                <a:cubicBezTo>
                  <a:pt x="6980" y="8911"/>
                  <a:pt x="6911" y="8905"/>
                  <a:pt x="6846" y="8905"/>
                </a:cubicBezTo>
                <a:cubicBezTo>
                  <a:pt x="6846" y="8847"/>
                  <a:pt x="6846" y="8789"/>
                  <a:pt x="6846" y="8731"/>
                </a:cubicBezTo>
              </a:path>
              <a:path w="2903" h="1663">
                <a:moveTo>
                  <a:pt x="4465" y="9475"/>
                </a:moveTo>
                <a:cubicBezTo>
                  <a:pt x="4465" y="9560"/>
                  <a:pt x="4465" y="9773"/>
                  <a:pt x="4465" y="9773"/>
                </a:cubicBezTo>
                <a:cubicBezTo>
                  <a:pt x="4465" y="9699"/>
                  <a:pt x="4451" y="9615"/>
                  <a:pt x="4490" y="9550"/>
                </a:cubicBezTo>
                <a:cubicBezTo>
                  <a:pt x="4507" y="9523"/>
                  <a:pt x="4562" y="9439"/>
                  <a:pt x="4589" y="9426"/>
                </a:cubicBezTo>
                <a:cubicBezTo>
                  <a:pt x="4624" y="9409"/>
                  <a:pt x="4656" y="9405"/>
                  <a:pt x="4688" y="9376"/>
                </a:cubicBezTo>
                <a:cubicBezTo>
                  <a:pt x="4723" y="9345"/>
                  <a:pt x="4741" y="9351"/>
                  <a:pt x="4787" y="9351"/>
                </a:cubicBezTo>
                <a:cubicBezTo>
                  <a:pt x="4867" y="9351"/>
                  <a:pt x="4853" y="9375"/>
                  <a:pt x="4887" y="9451"/>
                </a:cubicBezTo>
                <a:cubicBezTo>
                  <a:pt x="4913" y="9509"/>
                  <a:pt x="4911" y="9535"/>
                  <a:pt x="4911" y="9599"/>
                </a:cubicBezTo>
                <a:cubicBezTo>
                  <a:pt x="4911" y="9657"/>
                  <a:pt x="4911" y="9715"/>
                  <a:pt x="4911" y="9773"/>
                </a:cubicBezTo>
              </a:path>
              <a:path w="2903" h="1663">
                <a:moveTo>
                  <a:pt x="5234" y="9624"/>
                </a:moveTo>
                <a:cubicBezTo>
                  <a:pt x="5274" y="9614"/>
                  <a:pt x="5315" y="9611"/>
                  <a:pt x="5358" y="9599"/>
                </a:cubicBezTo>
                <a:cubicBezTo>
                  <a:pt x="5413" y="9583"/>
                  <a:pt x="5449" y="9575"/>
                  <a:pt x="5507" y="9575"/>
                </a:cubicBezTo>
                <a:cubicBezTo>
                  <a:pt x="5532" y="9575"/>
                  <a:pt x="5556" y="9575"/>
                  <a:pt x="5581" y="9575"/>
                </a:cubicBezTo>
              </a:path>
              <a:path w="2903" h="1663">
                <a:moveTo>
                  <a:pt x="5308" y="9823"/>
                </a:moveTo>
                <a:cubicBezTo>
                  <a:pt x="5374" y="9823"/>
                  <a:pt x="5441" y="9823"/>
                  <a:pt x="5507" y="9823"/>
                </a:cubicBezTo>
              </a:path>
              <a:path w="2903" h="1663">
                <a:moveTo>
                  <a:pt x="6102" y="9674"/>
                </a:moveTo>
                <a:cubicBezTo>
                  <a:pt x="6102" y="9682"/>
                  <a:pt x="6102" y="9691"/>
                  <a:pt x="6102" y="9699"/>
                </a:cubicBezTo>
              </a:path>
              <a:path w="2903" h="1663">
                <a:moveTo>
                  <a:pt x="6400" y="9277"/>
                </a:moveTo>
                <a:cubicBezTo>
                  <a:pt x="6400" y="9343"/>
                  <a:pt x="6400" y="9409"/>
                  <a:pt x="6400" y="9475"/>
                </a:cubicBezTo>
                <a:cubicBezTo>
                  <a:pt x="6475" y="9475"/>
                  <a:pt x="6594" y="9505"/>
                  <a:pt x="6623" y="9426"/>
                </a:cubicBezTo>
                <a:cubicBezTo>
                  <a:pt x="6637" y="9388"/>
                  <a:pt x="6623" y="9318"/>
                  <a:pt x="6623" y="9277"/>
                </a:cubicBezTo>
                <a:cubicBezTo>
                  <a:pt x="6623" y="9418"/>
                  <a:pt x="6623" y="9558"/>
                  <a:pt x="6623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82960" y="2214720"/>
            <a:ext cx="1224000" cy="1135080"/>
          </a:xfrm>
          <a:custGeom>
            <a:avLst/>
            <a:gdLst/>
            <a:ahLst/>
            <a:rect l="l" t="t" r="r" b="b"/>
            <a:pathLst>
              <a:path w="3399" h="3151">
                <a:moveTo>
                  <a:pt x="9847" y="7268"/>
                </a:moveTo>
                <a:cubicBezTo>
                  <a:pt x="9847" y="7458"/>
                  <a:pt x="9847" y="7648"/>
                  <a:pt x="9847" y="7838"/>
                </a:cubicBezTo>
              </a:path>
              <a:path w="3399" h="3151">
                <a:moveTo>
                  <a:pt x="10294" y="7293"/>
                </a:moveTo>
                <a:cubicBezTo>
                  <a:pt x="10294" y="7229"/>
                  <a:pt x="10270" y="7362"/>
                  <a:pt x="10269" y="7367"/>
                </a:cubicBezTo>
                <a:cubicBezTo>
                  <a:pt x="10259" y="7424"/>
                  <a:pt x="10224" y="7457"/>
                  <a:pt x="10220" y="7491"/>
                </a:cubicBezTo>
                <a:cubicBezTo>
                  <a:pt x="10215" y="7531"/>
                  <a:pt x="10203" y="7644"/>
                  <a:pt x="10244" y="7665"/>
                </a:cubicBezTo>
                <a:cubicBezTo>
                  <a:pt x="10301" y="7694"/>
                  <a:pt x="10419" y="7658"/>
                  <a:pt x="10443" y="7640"/>
                </a:cubicBezTo>
                <a:cubicBezTo>
                  <a:pt x="10498" y="7599"/>
                  <a:pt x="10509" y="7565"/>
                  <a:pt x="10542" y="7516"/>
                </a:cubicBezTo>
                <a:cubicBezTo>
                  <a:pt x="10568" y="7476"/>
                  <a:pt x="10567" y="7466"/>
                  <a:pt x="10567" y="7417"/>
                </a:cubicBezTo>
                <a:cubicBezTo>
                  <a:pt x="10567" y="7358"/>
                  <a:pt x="10576" y="7319"/>
                  <a:pt x="10542" y="7293"/>
                </a:cubicBezTo>
                <a:cubicBezTo>
                  <a:pt x="10494" y="7257"/>
                  <a:pt x="10535" y="7243"/>
                  <a:pt x="10468" y="7243"/>
                </a:cubicBezTo>
                <a:cubicBezTo>
                  <a:pt x="10418" y="7243"/>
                  <a:pt x="10369" y="7243"/>
                  <a:pt x="10319" y="7243"/>
                </a:cubicBezTo>
              </a:path>
              <a:path w="3399" h="3151">
                <a:moveTo>
                  <a:pt x="9525" y="7913"/>
                </a:moveTo>
                <a:cubicBezTo>
                  <a:pt x="9511" y="7889"/>
                  <a:pt x="9502" y="7891"/>
                  <a:pt x="9500" y="7838"/>
                </a:cubicBezTo>
                <a:cubicBezTo>
                  <a:pt x="9496" y="7751"/>
                  <a:pt x="9424" y="7106"/>
                  <a:pt x="9525" y="7045"/>
                </a:cubicBezTo>
                <a:cubicBezTo>
                  <a:pt x="9588" y="7007"/>
                  <a:pt x="9745" y="6972"/>
                  <a:pt x="9823" y="6945"/>
                </a:cubicBezTo>
                <a:cubicBezTo>
                  <a:pt x="9892" y="6922"/>
                  <a:pt x="9922" y="6903"/>
                  <a:pt x="9996" y="6896"/>
                </a:cubicBezTo>
                <a:cubicBezTo>
                  <a:pt x="10073" y="6889"/>
                  <a:pt x="10141" y="6871"/>
                  <a:pt x="10220" y="6871"/>
                </a:cubicBezTo>
                <a:cubicBezTo>
                  <a:pt x="10517" y="6871"/>
                  <a:pt x="10815" y="6871"/>
                  <a:pt x="11112" y="6871"/>
                </a:cubicBezTo>
              </a:path>
              <a:path w="3399" h="3151">
                <a:moveTo>
                  <a:pt x="8533" y="7268"/>
                </a:moveTo>
                <a:cubicBezTo>
                  <a:pt x="8546" y="7230"/>
                  <a:pt x="8562" y="7243"/>
                  <a:pt x="8607" y="7243"/>
                </a:cubicBezTo>
                <a:cubicBezTo>
                  <a:pt x="8632" y="7243"/>
                  <a:pt x="8640" y="7243"/>
                  <a:pt x="8657" y="7243"/>
                </a:cubicBezTo>
                <a:cubicBezTo>
                  <a:pt x="8657" y="7321"/>
                  <a:pt x="8694" y="7537"/>
                  <a:pt x="8632" y="7590"/>
                </a:cubicBezTo>
                <a:cubicBezTo>
                  <a:pt x="8625" y="7596"/>
                  <a:pt x="8564" y="7630"/>
                  <a:pt x="8558" y="7640"/>
                </a:cubicBezTo>
                <a:cubicBezTo>
                  <a:pt x="8530" y="7683"/>
                  <a:pt x="8501" y="7709"/>
                  <a:pt x="8458" y="7739"/>
                </a:cubicBezTo>
                <a:cubicBezTo>
                  <a:pt x="8409" y="7774"/>
                  <a:pt x="8453" y="7789"/>
                  <a:pt x="8384" y="7789"/>
                </a:cubicBezTo>
                <a:cubicBezTo>
                  <a:pt x="8351" y="7789"/>
                  <a:pt x="8318" y="7789"/>
                  <a:pt x="8285" y="7789"/>
                </a:cubicBezTo>
                <a:cubicBezTo>
                  <a:pt x="8285" y="7692"/>
                  <a:pt x="8283" y="7681"/>
                  <a:pt x="8334" y="7615"/>
                </a:cubicBezTo>
                <a:cubicBezTo>
                  <a:pt x="8365" y="7575"/>
                  <a:pt x="8369" y="7546"/>
                  <a:pt x="8409" y="7541"/>
                </a:cubicBezTo>
                <a:cubicBezTo>
                  <a:pt x="8449" y="7536"/>
                  <a:pt x="8493" y="7541"/>
                  <a:pt x="8533" y="7541"/>
                </a:cubicBezTo>
                <a:cubicBezTo>
                  <a:pt x="8533" y="7572"/>
                  <a:pt x="8541" y="7606"/>
                  <a:pt x="8558" y="7615"/>
                </a:cubicBezTo>
                <a:cubicBezTo>
                  <a:pt x="8586" y="7630"/>
                  <a:pt x="8586" y="7660"/>
                  <a:pt x="8632" y="7665"/>
                </a:cubicBezTo>
                <a:cubicBezTo>
                  <a:pt x="8673" y="7670"/>
                  <a:pt x="8659" y="7702"/>
                  <a:pt x="8682" y="7714"/>
                </a:cubicBezTo>
                <a:cubicBezTo>
                  <a:pt x="8712" y="7729"/>
                  <a:pt x="8720" y="7730"/>
                  <a:pt x="8731" y="7764"/>
                </a:cubicBezTo>
              </a:path>
              <a:path w="3399" h="3151">
                <a:moveTo>
                  <a:pt x="9203" y="7144"/>
                </a:moveTo>
                <a:cubicBezTo>
                  <a:pt x="9138" y="7144"/>
                  <a:pt x="8911" y="7109"/>
                  <a:pt x="8880" y="7169"/>
                </a:cubicBezTo>
                <a:cubicBezTo>
                  <a:pt x="8859" y="7210"/>
                  <a:pt x="8880" y="7320"/>
                  <a:pt x="8880" y="7367"/>
                </a:cubicBezTo>
                <a:cubicBezTo>
                  <a:pt x="8971" y="7367"/>
                  <a:pt x="9050" y="7366"/>
                  <a:pt x="9128" y="7392"/>
                </a:cubicBezTo>
                <a:cubicBezTo>
                  <a:pt x="9150" y="7399"/>
                  <a:pt x="9167" y="7434"/>
                  <a:pt x="9178" y="7466"/>
                </a:cubicBezTo>
                <a:cubicBezTo>
                  <a:pt x="9195" y="7516"/>
                  <a:pt x="9196" y="7762"/>
                  <a:pt x="9153" y="7789"/>
                </a:cubicBezTo>
                <a:cubicBezTo>
                  <a:pt x="9118" y="7811"/>
                  <a:pt x="9117" y="7813"/>
                  <a:pt x="9054" y="7813"/>
                </a:cubicBezTo>
                <a:cubicBezTo>
                  <a:pt x="8982" y="7813"/>
                  <a:pt x="8919" y="7808"/>
                  <a:pt x="8880" y="7789"/>
                </a:cubicBezTo>
                <a:cubicBezTo>
                  <a:pt x="8853" y="7776"/>
                  <a:pt x="8839" y="7742"/>
                  <a:pt x="8830" y="7714"/>
                </a:cubicBezTo>
              </a:path>
              <a:path w="3399" h="3151">
                <a:moveTo>
                  <a:pt x="10765" y="7640"/>
                </a:moveTo>
                <a:lnTo>
                  <a:pt x="10765" y="7640"/>
                </a:lnTo>
              </a:path>
              <a:path w="3399" h="3151">
                <a:moveTo>
                  <a:pt x="10790" y="6648"/>
                </a:moveTo>
                <a:lnTo>
                  <a:pt x="10790" y="6648"/>
                </a:lnTo>
              </a:path>
              <a:path w="3399" h="3151">
                <a:moveTo>
                  <a:pt x="11137" y="7193"/>
                </a:moveTo>
                <a:cubicBezTo>
                  <a:pt x="11090" y="7193"/>
                  <a:pt x="11048" y="7194"/>
                  <a:pt x="11013" y="7218"/>
                </a:cubicBezTo>
                <a:cubicBezTo>
                  <a:pt x="10978" y="7241"/>
                  <a:pt x="10973" y="7264"/>
                  <a:pt x="10939" y="7293"/>
                </a:cubicBezTo>
                <a:cubicBezTo>
                  <a:pt x="10913" y="7316"/>
                  <a:pt x="10893" y="7359"/>
                  <a:pt x="10889" y="7392"/>
                </a:cubicBezTo>
                <a:cubicBezTo>
                  <a:pt x="10884" y="7433"/>
                  <a:pt x="10864" y="7445"/>
                  <a:pt x="10864" y="7491"/>
                </a:cubicBezTo>
                <a:cubicBezTo>
                  <a:pt x="10864" y="7568"/>
                  <a:pt x="10867" y="7625"/>
                  <a:pt x="10889" y="7689"/>
                </a:cubicBezTo>
                <a:cubicBezTo>
                  <a:pt x="10905" y="7737"/>
                  <a:pt x="10911" y="7739"/>
                  <a:pt x="10964" y="7739"/>
                </a:cubicBezTo>
                <a:cubicBezTo>
                  <a:pt x="11033" y="7739"/>
                  <a:pt x="11136" y="7759"/>
                  <a:pt x="11187" y="7714"/>
                </a:cubicBezTo>
                <a:cubicBezTo>
                  <a:pt x="11221" y="7684"/>
                  <a:pt x="11245" y="7662"/>
                  <a:pt x="11261" y="7640"/>
                </a:cubicBezTo>
                <a:cubicBezTo>
                  <a:pt x="11284" y="7609"/>
                  <a:pt x="11328" y="7576"/>
                  <a:pt x="11336" y="7541"/>
                </a:cubicBezTo>
                <a:cubicBezTo>
                  <a:pt x="11350" y="7478"/>
                  <a:pt x="11345" y="7341"/>
                  <a:pt x="11311" y="7317"/>
                </a:cubicBezTo>
                <a:cubicBezTo>
                  <a:pt x="11282" y="7296"/>
                  <a:pt x="11278" y="7252"/>
                  <a:pt x="11261" y="7243"/>
                </a:cubicBezTo>
                <a:cubicBezTo>
                  <a:pt x="11229" y="7227"/>
                  <a:pt x="11237" y="7218"/>
                  <a:pt x="11187" y="7218"/>
                </a:cubicBezTo>
                <a:cubicBezTo>
                  <a:pt x="11154" y="7218"/>
                  <a:pt x="11121" y="7218"/>
                  <a:pt x="11088" y="7218"/>
                </a:cubicBezTo>
              </a:path>
              <a:path w="3399" h="3151">
                <a:moveTo>
                  <a:pt x="10790" y="6722"/>
                </a:moveTo>
                <a:cubicBezTo>
                  <a:pt x="10823" y="6722"/>
                  <a:pt x="10840" y="6755"/>
                  <a:pt x="10840" y="6722"/>
                </a:cubicBezTo>
                <a:cubicBezTo>
                  <a:pt x="10840" y="6671"/>
                  <a:pt x="10840" y="6660"/>
                  <a:pt x="10790" y="6648"/>
                </a:cubicBezTo>
              </a:path>
              <a:path w="3399" h="3151">
                <a:moveTo>
                  <a:pt x="11038" y="6152"/>
                </a:moveTo>
                <a:cubicBezTo>
                  <a:pt x="11038" y="6268"/>
                  <a:pt x="11038" y="6383"/>
                  <a:pt x="11038" y="6499"/>
                </a:cubicBezTo>
                <a:cubicBezTo>
                  <a:pt x="11122" y="6499"/>
                  <a:pt x="11190" y="6498"/>
                  <a:pt x="11261" y="6474"/>
                </a:cubicBezTo>
                <a:cubicBezTo>
                  <a:pt x="11296" y="6462"/>
                  <a:pt x="11321" y="6456"/>
                  <a:pt x="11336" y="6449"/>
                </a:cubicBezTo>
                <a:cubicBezTo>
                  <a:pt x="11371" y="6432"/>
                  <a:pt x="11361" y="6423"/>
                  <a:pt x="11361" y="6375"/>
                </a:cubicBezTo>
                <a:cubicBezTo>
                  <a:pt x="11361" y="6326"/>
                  <a:pt x="11361" y="6147"/>
                  <a:pt x="11361" y="6176"/>
                </a:cubicBezTo>
                <a:cubicBezTo>
                  <a:pt x="11361" y="6383"/>
                  <a:pt x="11361" y="6589"/>
                  <a:pt x="11361" y="6796"/>
                </a:cubicBezTo>
              </a:path>
              <a:path w="3399" h="3151">
                <a:moveTo>
                  <a:pt x="11013" y="6896"/>
                </a:moveTo>
                <a:cubicBezTo>
                  <a:pt x="11228" y="6896"/>
                  <a:pt x="11443" y="6896"/>
                  <a:pt x="11658" y="6896"/>
                </a:cubicBezTo>
              </a:path>
              <a:path w="3399" h="3151">
                <a:moveTo>
                  <a:pt x="10021" y="8111"/>
                </a:moveTo>
                <a:cubicBezTo>
                  <a:pt x="10021" y="8219"/>
                  <a:pt x="10021" y="8326"/>
                  <a:pt x="10021" y="8434"/>
                </a:cubicBezTo>
              </a:path>
              <a:path w="3399" h="3151">
                <a:moveTo>
                  <a:pt x="10517" y="8037"/>
                </a:moveTo>
                <a:cubicBezTo>
                  <a:pt x="10508" y="8101"/>
                  <a:pt x="10492" y="8139"/>
                  <a:pt x="10492" y="8210"/>
                </a:cubicBezTo>
                <a:cubicBezTo>
                  <a:pt x="10492" y="8260"/>
                  <a:pt x="10492" y="8309"/>
                  <a:pt x="10492" y="8359"/>
                </a:cubicBezTo>
                <a:cubicBezTo>
                  <a:pt x="10550" y="8359"/>
                  <a:pt x="10785" y="8392"/>
                  <a:pt x="10815" y="8334"/>
                </a:cubicBezTo>
                <a:cubicBezTo>
                  <a:pt x="10841" y="8283"/>
                  <a:pt x="10814" y="8129"/>
                  <a:pt x="10790" y="8111"/>
                </a:cubicBezTo>
                <a:cubicBezTo>
                  <a:pt x="10747" y="8078"/>
                  <a:pt x="10747" y="8062"/>
                  <a:pt x="10691" y="8062"/>
                </a:cubicBezTo>
                <a:cubicBezTo>
                  <a:pt x="10666" y="8062"/>
                  <a:pt x="10641" y="8062"/>
                  <a:pt x="10616" y="8062"/>
                </a:cubicBezTo>
              </a:path>
              <a:path w="3399" h="3151">
                <a:moveTo>
                  <a:pt x="11137" y="8012"/>
                </a:moveTo>
                <a:cubicBezTo>
                  <a:pt x="11067" y="8032"/>
                  <a:pt x="11041" y="8084"/>
                  <a:pt x="11013" y="8161"/>
                </a:cubicBezTo>
                <a:cubicBezTo>
                  <a:pt x="10994" y="8212"/>
                  <a:pt x="10988" y="8254"/>
                  <a:pt x="10988" y="8310"/>
                </a:cubicBezTo>
                <a:cubicBezTo>
                  <a:pt x="10988" y="8347"/>
                  <a:pt x="10972" y="8414"/>
                  <a:pt x="11013" y="8434"/>
                </a:cubicBezTo>
                <a:cubicBezTo>
                  <a:pt x="11064" y="8459"/>
                  <a:pt x="11108" y="8483"/>
                  <a:pt x="11162" y="8483"/>
                </a:cubicBezTo>
                <a:cubicBezTo>
                  <a:pt x="11211" y="8483"/>
                  <a:pt x="11249" y="8501"/>
                  <a:pt x="11261" y="8434"/>
                </a:cubicBezTo>
                <a:cubicBezTo>
                  <a:pt x="11282" y="8319"/>
                  <a:pt x="11261" y="8180"/>
                  <a:pt x="11261" y="8062"/>
                </a:cubicBezTo>
                <a:cubicBezTo>
                  <a:pt x="11211" y="8062"/>
                  <a:pt x="11162" y="8062"/>
                  <a:pt x="11112" y="8062"/>
                </a:cubicBezTo>
              </a:path>
              <a:path w="3399" h="3151">
                <a:moveTo>
                  <a:pt x="9401" y="8384"/>
                </a:moveTo>
                <a:lnTo>
                  <a:pt x="9401" y="8384"/>
                </a:lnTo>
                <a:lnTo>
                  <a:pt x="9401" y="8384"/>
                </a:lnTo>
              </a:path>
              <a:path w="3399" h="3151">
                <a:moveTo>
                  <a:pt x="9649" y="8632"/>
                </a:moveTo>
                <a:cubicBezTo>
                  <a:pt x="10067" y="8632"/>
                  <a:pt x="10478" y="8644"/>
                  <a:pt x="10889" y="8682"/>
                </a:cubicBezTo>
                <a:cubicBezTo>
                  <a:pt x="11076" y="8699"/>
                  <a:pt x="11178" y="8722"/>
                  <a:pt x="11336" y="8781"/>
                </a:cubicBezTo>
                <a:cubicBezTo>
                  <a:pt x="11378" y="8797"/>
                  <a:pt x="11466" y="8803"/>
                  <a:pt x="11509" y="8806"/>
                </a:cubicBezTo>
                <a:cubicBezTo>
                  <a:pt x="11567" y="8809"/>
                  <a:pt x="11625" y="8806"/>
                  <a:pt x="11683" y="8806"/>
                </a:cubicBezTo>
              </a:path>
              <a:path w="3399" h="3151">
                <a:moveTo>
                  <a:pt x="11137" y="8979"/>
                </a:moveTo>
                <a:cubicBezTo>
                  <a:pt x="11089" y="8979"/>
                  <a:pt x="11051" y="9004"/>
                  <a:pt x="11038" y="9054"/>
                </a:cubicBezTo>
                <a:cubicBezTo>
                  <a:pt x="11028" y="9090"/>
                  <a:pt x="11017" y="9145"/>
                  <a:pt x="11013" y="9178"/>
                </a:cubicBezTo>
                <a:cubicBezTo>
                  <a:pt x="11009" y="9218"/>
                  <a:pt x="11013" y="9262"/>
                  <a:pt x="11013" y="9302"/>
                </a:cubicBezTo>
                <a:cubicBezTo>
                  <a:pt x="11079" y="9302"/>
                  <a:pt x="11146" y="9302"/>
                  <a:pt x="11212" y="9302"/>
                </a:cubicBezTo>
                <a:cubicBezTo>
                  <a:pt x="11212" y="9214"/>
                  <a:pt x="11248" y="9021"/>
                  <a:pt x="11187" y="8954"/>
                </a:cubicBezTo>
                <a:cubicBezTo>
                  <a:pt x="11162" y="8926"/>
                  <a:pt x="11098" y="8909"/>
                  <a:pt x="11063" y="8905"/>
                </a:cubicBezTo>
                <a:cubicBezTo>
                  <a:pt x="11039" y="8902"/>
                  <a:pt x="11012" y="8905"/>
                  <a:pt x="10988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6120" y="3259080"/>
            <a:ext cx="376200" cy="295200"/>
          </a:xfrm>
          <a:custGeom>
            <a:avLst/>
            <a:gdLst/>
            <a:ahLst/>
            <a:rect l="l" t="t" r="r" b="b"/>
            <a:pathLst>
              <a:path w="1043" h="819">
                <a:moveTo>
                  <a:pt x="7293" y="9748"/>
                </a:moveTo>
                <a:cubicBezTo>
                  <a:pt x="7305" y="9786"/>
                  <a:pt x="7322" y="9773"/>
                  <a:pt x="7367" y="9773"/>
                </a:cubicBezTo>
                <a:cubicBezTo>
                  <a:pt x="7514" y="9773"/>
                  <a:pt x="7576" y="9664"/>
                  <a:pt x="7689" y="9599"/>
                </a:cubicBezTo>
                <a:cubicBezTo>
                  <a:pt x="7713" y="9585"/>
                  <a:pt x="7803" y="9530"/>
                  <a:pt x="7813" y="9525"/>
                </a:cubicBezTo>
                <a:cubicBezTo>
                  <a:pt x="7837" y="9513"/>
                  <a:pt x="7858" y="9494"/>
                  <a:pt x="7888" y="9475"/>
                </a:cubicBezTo>
                <a:cubicBezTo>
                  <a:pt x="7896" y="9467"/>
                  <a:pt x="7905" y="9459"/>
                  <a:pt x="7913" y="9451"/>
                </a:cubicBezTo>
              </a:path>
              <a:path w="1043" h="819">
                <a:moveTo>
                  <a:pt x="7268" y="9674"/>
                </a:moveTo>
                <a:cubicBezTo>
                  <a:pt x="7268" y="9727"/>
                  <a:pt x="7285" y="9757"/>
                  <a:pt x="7293" y="9798"/>
                </a:cubicBezTo>
                <a:cubicBezTo>
                  <a:pt x="7298" y="9822"/>
                  <a:pt x="7290" y="9848"/>
                  <a:pt x="7293" y="9872"/>
                </a:cubicBezTo>
                <a:cubicBezTo>
                  <a:pt x="7370" y="9872"/>
                  <a:pt x="7509" y="9903"/>
                  <a:pt x="7565" y="9847"/>
                </a:cubicBezTo>
                <a:cubicBezTo>
                  <a:pt x="7687" y="9725"/>
                  <a:pt x="7814" y="9607"/>
                  <a:pt x="7938" y="9475"/>
                </a:cubicBezTo>
                <a:cubicBezTo>
                  <a:pt x="8034" y="9373"/>
                  <a:pt x="8177" y="9286"/>
                  <a:pt x="8260" y="9178"/>
                </a:cubicBezTo>
                <a:cubicBezTo>
                  <a:pt x="8286" y="9144"/>
                  <a:pt x="8295" y="9120"/>
                  <a:pt x="8310" y="9079"/>
                </a:cubicBezTo>
                <a:cubicBezTo>
                  <a:pt x="8310" y="9071"/>
                  <a:pt x="8310" y="9062"/>
                  <a:pt x="8310" y="90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14280" y="4286160"/>
            <a:ext cx="1179720" cy="1116000"/>
          </a:xfrm>
          <a:custGeom>
            <a:avLst/>
            <a:gdLst/>
            <a:ahLst/>
            <a:rect l="l" t="t" r="r" b="b"/>
            <a:pathLst>
              <a:path w="3276" h="3102">
                <a:moveTo>
                  <a:pt x="5854" y="12923"/>
                </a:moveTo>
                <a:cubicBezTo>
                  <a:pt x="6119" y="12923"/>
                  <a:pt x="6383" y="12923"/>
                  <a:pt x="6648" y="12923"/>
                </a:cubicBezTo>
              </a:path>
              <a:path w="3276" h="3102">
                <a:moveTo>
                  <a:pt x="6375" y="13196"/>
                </a:moveTo>
                <a:cubicBezTo>
                  <a:pt x="6400" y="13196"/>
                  <a:pt x="6408" y="13196"/>
                  <a:pt x="6400" y="13171"/>
                </a:cubicBezTo>
                <a:cubicBezTo>
                  <a:pt x="6276" y="13171"/>
                  <a:pt x="6152" y="13171"/>
                  <a:pt x="6028" y="13171"/>
                </a:cubicBezTo>
                <a:cubicBezTo>
                  <a:pt x="6028" y="13246"/>
                  <a:pt x="6028" y="13320"/>
                  <a:pt x="6028" y="13395"/>
                </a:cubicBezTo>
                <a:cubicBezTo>
                  <a:pt x="6102" y="13395"/>
                  <a:pt x="6187" y="13409"/>
                  <a:pt x="6226" y="13419"/>
                </a:cubicBezTo>
                <a:cubicBezTo>
                  <a:pt x="6297" y="13438"/>
                  <a:pt x="6267" y="13425"/>
                  <a:pt x="6300" y="13469"/>
                </a:cubicBezTo>
                <a:cubicBezTo>
                  <a:pt x="6333" y="13513"/>
                  <a:pt x="6350" y="13511"/>
                  <a:pt x="6350" y="13568"/>
                </a:cubicBezTo>
                <a:cubicBezTo>
                  <a:pt x="6350" y="13615"/>
                  <a:pt x="6373" y="13743"/>
                  <a:pt x="6325" y="13767"/>
                </a:cubicBezTo>
                <a:cubicBezTo>
                  <a:pt x="6278" y="13790"/>
                  <a:pt x="6032" y="13776"/>
                  <a:pt x="6028" y="13742"/>
                </a:cubicBezTo>
                <a:cubicBezTo>
                  <a:pt x="6028" y="13717"/>
                  <a:pt x="6028" y="13709"/>
                  <a:pt x="6003" y="13717"/>
                </a:cubicBezTo>
              </a:path>
              <a:path w="3276" h="3102">
                <a:moveTo>
                  <a:pt x="3373" y="13047"/>
                </a:moveTo>
                <a:cubicBezTo>
                  <a:pt x="3394" y="12965"/>
                  <a:pt x="3451" y="12989"/>
                  <a:pt x="3522" y="12973"/>
                </a:cubicBezTo>
                <a:cubicBezTo>
                  <a:pt x="3653" y="12943"/>
                  <a:pt x="3786" y="12891"/>
                  <a:pt x="3919" y="12874"/>
                </a:cubicBezTo>
                <a:cubicBezTo>
                  <a:pt x="4003" y="12863"/>
                  <a:pt x="4081" y="12849"/>
                  <a:pt x="4167" y="12849"/>
                </a:cubicBezTo>
                <a:cubicBezTo>
                  <a:pt x="4225" y="12849"/>
                  <a:pt x="4283" y="12849"/>
                  <a:pt x="4341" y="12849"/>
                </a:cubicBezTo>
              </a:path>
              <a:path w="3276" h="3102">
                <a:moveTo>
                  <a:pt x="4018" y="13122"/>
                </a:moveTo>
                <a:cubicBezTo>
                  <a:pt x="3894" y="13122"/>
                  <a:pt x="3770" y="13122"/>
                  <a:pt x="3646" y="13122"/>
                </a:cubicBezTo>
                <a:cubicBezTo>
                  <a:pt x="3646" y="13229"/>
                  <a:pt x="3646" y="13337"/>
                  <a:pt x="3646" y="13444"/>
                </a:cubicBezTo>
                <a:cubicBezTo>
                  <a:pt x="3708" y="13444"/>
                  <a:pt x="3745" y="13436"/>
                  <a:pt x="3795" y="13419"/>
                </a:cubicBezTo>
                <a:cubicBezTo>
                  <a:pt x="3804" y="13416"/>
                  <a:pt x="3865" y="13378"/>
                  <a:pt x="3870" y="13370"/>
                </a:cubicBezTo>
                <a:cubicBezTo>
                  <a:pt x="3891" y="13339"/>
                  <a:pt x="3893" y="13345"/>
                  <a:pt x="3944" y="13345"/>
                </a:cubicBezTo>
                <a:cubicBezTo>
                  <a:pt x="3969" y="13345"/>
                  <a:pt x="3993" y="13345"/>
                  <a:pt x="4018" y="13345"/>
                </a:cubicBezTo>
                <a:cubicBezTo>
                  <a:pt x="4018" y="13413"/>
                  <a:pt x="4035" y="13512"/>
                  <a:pt x="3994" y="13543"/>
                </a:cubicBezTo>
                <a:cubicBezTo>
                  <a:pt x="3949" y="13577"/>
                  <a:pt x="3932" y="13612"/>
                  <a:pt x="3870" y="13618"/>
                </a:cubicBezTo>
                <a:cubicBezTo>
                  <a:pt x="3814" y="13624"/>
                  <a:pt x="3793" y="13605"/>
                  <a:pt x="3770" y="13593"/>
                </a:cubicBezTo>
                <a:cubicBezTo>
                  <a:pt x="3738" y="13577"/>
                  <a:pt x="3756" y="13580"/>
                  <a:pt x="3721" y="13568"/>
                </a:cubicBezTo>
              </a:path>
              <a:path w="3276" h="3102">
                <a:moveTo>
                  <a:pt x="3870" y="14436"/>
                </a:moveTo>
                <a:cubicBezTo>
                  <a:pt x="3870" y="14371"/>
                  <a:pt x="3870" y="14522"/>
                  <a:pt x="3870" y="14536"/>
                </a:cubicBezTo>
                <a:cubicBezTo>
                  <a:pt x="3870" y="14660"/>
                  <a:pt x="3870" y="14784"/>
                  <a:pt x="3870" y="14908"/>
                </a:cubicBezTo>
              </a:path>
              <a:path w="3276" h="3102">
                <a:moveTo>
                  <a:pt x="4217" y="14412"/>
                </a:moveTo>
                <a:cubicBezTo>
                  <a:pt x="4217" y="14338"/>
                  <a:pt x="4246" y="14330"/>
                  <a:pt x="4316" y="14288"/>
                </a:cubicBezTo>
                <a:cubicBezTo>
                  <a:pt x="4380" y="14250"/>
                  <a:pt x="4455" y="14241"/>
                  <a:pt x="4514" y="14213"/>
                </a:cubicBezTo>
                <a:cubicBezTo>
                  <a:pt x="4556" y="14193"/>
                  <a:pt x="4562" y="14188"/>
                  <a:pt x="4614" y="14188"/>
                </a:cubicBezTo>
                <a:cubicBezTo>
                  <a:pt x="4622" y="14188"/>
                  <a:pt x="4630" y="14188"/>
                  <a:pt x="4638" y="14188"/>
                </a:cubicBezTo>
                <a:cubicBezTo>
                  <a:pt x="4638" y="14284"/>
                  <a:pt x="4636" y="14323"/>
                  <a:pt x="4589" y="14412"/>
                </a:cubicBezTo>
                <a:cubicBezTo>
                  <a:pt x="4569" y="14450"/>
                  <a:pt x="4516" y="14539"/>
                  <a:pt x="4490" y="14560"/>
                </a:cubicBezTo>
                <a:cubicBezTo>
                  <a:pt x="4458" y="14586"/>
                  <a:pt x="4446" y="14645"/>
                  <a:pt x="4415" y="14660"/>
                </a:cubicBezTo>
                <a:cubicBezTo>
                  <a:pt x="4385" y="14675"/>
                  <a:pt x="4354" y="14721"/>
                  <a:pt x="4341" y="14759"/>
                </a:cubicBezTo>
                <a:cubicBezTo>
                  <a:pt x="4336" y="14775"/>
                  <a:pt x="4318" y="14820"/>
                  <a:pt x="4291" y="14833"/>
                </a:cubicBezTo>
                <a:cubicBezTo>
                  <a:pt x="4272" y="14842"/>
                  <a:pt x="4224" y="14858"/>
                  <a:pt x="4266" y="14858"/>
                </a:cubicBezTo>
                <a:cubicBezTo>
                  <a:pt x="4357" y="14858"/>
                  <a:pt x="4448" y="14858"/>
                  <a:pt x="4539" y="14858"/>
                </a:cubicBezTo>
              </a:path>
              <a:path w="3276" h="3102">
                <a:moveTo>
                  <a:pt x="4961" y="14486"/>
                </a:moveTo>
                <a:cubicBezTo>
                  <a:pt x="5060" y="14486"/>
                  <a:pt x="5160" y="14486"/>
                  <a:pt x="5259" y="14486"/>
                </a:cubicBezTo>
              </a:path>
              <a:path w="3276" h="3102">
                <a:moveTo>
                  <a:pt x="5110" y="14709"/>
                </a:moveTo>
                <a:cubicBezTo>
                  <a:pt x="5102" y="14709"/>
                  <a:pt x="5093" y="14709"/>
                  <a:pt x="5085" y="14709"/>
                </a:cubicBezTo>
                <a:cubicBezTo>
                  <a:pt x="5168" y="14709"/>
                  <a:pt x="5250" y="14709"/>
                  <a:pt x="5333" y="14709"/>
                </a:cubicBezTo>
              </a:path>
              <a:path w="3276" h="3102">
                <a:moveTo>
                  <a:pt x="6003" y="11931"/>
                </a:moveTo>
                <a:cubicBezTo>
                  <a:pt x="6003" y="11923"/>
                  <a:pt x="6003" y="11914"/>
                  <a:pt x="6003" y="11906"/>
                </a:cubicBezTo>
                <a:cubicBezTo>
                  <a:pt x="5989" y="11930"/>
                  <a:pt x="5981" y="11928"/>
                  <a:pt x="5978" y="11981"/>
                </a:cubicBezTo>
                <a:cubicBezTo>
                  <a:pt x="5975" y="12025"/>
                  <a:pt x="5960" y="12046"/>
                  <a:pt x="5953" y="12080"/>
                </a:cubicBezTo>
                <a:cubicBezTo>
                  <a:pt x="5913" y="12276"/>
                  <a:pt x="5944" y="12569"/>
                  <a:pt x="5978" y="12750"/>
                </a:cubicBezTo>
                <a:cubicBezTo>
                  <a:pt x="5990" y="12815"/>
                  <a:pt x="6013" y="12866"/>
                  <a:pt x="6028" y="12923"/>
                </a:cubicBezTo>
                <a:cubicBezTo>
                  <a:pt x="6086" y="13139"/>
                  <a:pt x="6028" y="13444"/>
                  <a:pt x="6028" y="13667"/>
                </a:cubicBezTo>
              </a:path>
              <a:path w="3276" h="3102">
                <a:moveTo>
                  <a:pt x="5755" y="14635"/>
                </a:moveTo>
                <a:cubicBezTo>
                  <a:pt x="5755" y="14759"/>
                  <a:pt x="5755" y="14883"/>
                  <a:pt x="5755" y="15007"/>
                </a:cubicBezTo>
                <a:cubicBezTo>
                  <a:pt x="5786" y="14963"/>
                  <a:pt x="5779" y="14940"/>
                  <a:pt x="5779" y="14883"/>
                </a:cubicBezTo>
                <a:cubicBezTo>
                  <a:pt x="5779" y="14838"/>
                  <a:pt x="5804" y="14806"/>
                  <a:pt x="5804" y="14759"/>
                </a:cubicBezTo>
                <a:cubicBezTo>
                  <a:pt x="5804" y="14712"/>
                  <a:pt x="5793" y="14700"/>
                  <a:pt x="5829" y="14684"/>
                </a:cubicBezTo>
                <a:cubicBezTo>
                  <a:pt x="5874" y="14664"/>
                  <a:pt x="5905" y="14620"/>
                  <a:pt x="5928" y="14610"/>
                </a:cubicBezTo>
                <a:cubicBezTo>
                  <a:pt x="5958" y="14597"/>
                  <a:pt x="5981" y="14588"/>
                  <a:pt x="6003" y="14585"/>
                </a:cubicBezTo>
                <a:cubicBezTo>
                  <a:pt x="6020" y="14583"/>
                  <a:pt x="6054" y="14572"/>
                  <a:pt x="6077" y="14560"/>
                </a:cubicBezTo>
                <a:cubicBezTo>
                  <a:pt x="6118" y="14538"/>
                  <a:pt x="6126" y="14536"/>
                  <a:pt x="6176" y="14536"/>
                </a:cubicBezTo>
                <a:cubicBezTo>
                  <a:pt x="6228" y="14536"/>
                  <a:pt x="6226" y="14533"/>
                  <a:pt x="6226" y="14585"/>
                </a:cubicBezTo>
                <a:cubicBezTo>
                  <a:pt x="6226" y="14593"/>
                  <a:pt x="6226" y="14602"/>
                  <a:pt x="6226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76840" y="2133720"/>
            <a:ext cx="839880" cy="1430280"/>
          </a:xfrm>
          <a:custGeom>
            <a:avLst/>
            <a:gdLst/>
            <a:ahLst/>
            <a:rect l="l" t="t" r="r" b="b"/>
            <a:pathLst>
              <a:path w="2332" h="3970">
                <a:moveTo>
                  <a:pt x="13965" y="6747"/>
                </a:moveTo>
                <a:cubicBezTo>
                  <a:pt x="13980" y="6688"/>
                  <a:pt x="13990" y="6710"/>
                  <a:pt x="14039" y="6697"/>
                </a:cubicBezTo>
                <a:cubicBezTo>
                  <a:pt x="14103" y="6680"/>
                  <a:pt x="14127" y="6672"/>
                  <a:pt x="14188" y="6672"/>
                </a:cubicBezTo>
                <a:cubicBezTo>
                  <a:pt x="14236" y="6672"/>
                  <a:pt x="14324" y="6656"/>
                  <a:pt x="14362" y="6697"/>
                </a:cubicBezTo>
                <a:cubicBezTo>
                  <a:pt x="14407" y="6746"/>
                  <a:pt x="14431" y="6834"/>
                  <a:pt x="14436" y="6896"/>
                </a:cubicBezTo>
                <a:cubicBezTo>
                  <a:pt x="14445" y="7013"/>
                  <a:pt x="14444" y="7056"/>
                  <a:pt x="14362" y="7144"/>
                </a:cubicBezTo>
                <a:cubicBezTo>
                  <a:pt x="14235" y="7280"/>
                  <a:pt x="14109" y="7386"/>
                  <a:pt x="13940" y="7466"/>
                </a:cubicBezTo>
                <a:cubicBezTo>
                  <a:pt x="13878" y="7495"/>
                  <a:pt x="13832" y="7491"/>
                  <a:pt x="13767" y="7491"/>
                </a:cubicBezTo>
                <a:cubicBezTo>
                  <a:pt x="13742" y="7491"/>
                  <a:pt x="13734" y="7491"/>
                  <a:pt x="13717" y="7491"/>
                </a:cubicBezTo>
                <a:cubicBezTo>
                  <a:pt x="13717" y="7432"/>
                  <a:pt x="13704" y="7367"/>
                  <a:pt x="13742" y="7317"/>
                </a:cubicBezTo>
                <a:cubicBezTo>
                  <a:pt x="13787" y="7258"/>
                  <a:pt x="13894" y="7205"/>
                  <a:pt x="13965" y="7193"/>
                </a:cubicBezTo>
                <a:cubicBezTo>
                  <a:pt x="14037" y="7181"/>
                  <a:pt x="14231" y="7175"/>
                  <a:pt x="14263" y="7218"/>
                </a:cubicBezTo>
                <a:cubicBezTo>
                  <a:pt x="14288" y="7243"/>
                  <a:pt x="14296" y="7251"/>
                  <a:pt x="14312" y="7268"/>
                </a:cubicBezTo>
              </a:path>
              <a:path w="2332" h="3970">
                <a:moveTo>
                  <a:pt x="15081" y="6524"/>
                </a:moveTo>
                <a:cubicBezTo>
                  <a:pt x="15059" y="6490"/>
                  <a:pt x="15033" y="6499"/>
                  <a:pt x="14982" y="6499"/>
                </a:cubicBezTo>
                <a:cubicBezTo>
                  <a:pt x="14932" y="6499"/>
                  <a:pt x="14784" y="6474"/>
                  <a:pt x="14759" y="6524"/>
                </a:cubicBezTo>
                <a:cubicBezTo>
                  <a:pt x="14738" y="6565"/>
                  <a:pt x="14759" y="6674"/>
                  <a:pt x="14759" y="6722"/>
                </a:cubicBezTo>
                <a:cubicBezTo>
                  <a:pt x="14847" y="6722"/>
                  <a:pt x="15040" y="6689"/>
                  <a:pt x="15106" y="6747"/>
                </a:cubicBezTo>
                <a:cubicBezTo>
                  <a:pt x="15157" y="6792"/>
                  <a:pt x="15156" y="6833"/>
                  <a:pt x="15156" y="6896"/>
                </a:cubicBezTo>
                <a:cubicBezTo>
                  <a:pt x="15156" y="7020"/>
                  <a:pt x="15171" y="7059"/>
                  <a:pt x="15081" y="7144"/>
                </a:cubicBezTo>
                <a:cubicBezTo>
                  <a:pt x="15012" y="7209"/>
                  <a:pt x="14915" y="7245"/>
                  <a:pt x="14833" y="7293"/>
                </a:cubicBezTo>
                <a:cubicBezTo>
                  <a:pt x="14817" y="7301"/>
                  <a:pt x="14800" y="7309"/>
                  <a:pt x="14784" y="7317"/>
                </a:cubicBezTo>
              </a:path>
              <a:path w="2332" h="3970">
                <a:moveTo>
                  <a:pt x="13271" y="7739"/>
                </a:moveTo>
                <a:cubicBezTo>
                  <a:pt x="13291" y="7859"/>
                  <a:pt x="13344" y="7981"/>
                  <a:pt x="13419" y="8086"/>
                </a:cubicBezTo>
                <a:cubicBezTo>
                  <a:pt x="13468" y="8155"/>
                  <a:pt x="13543" y="8202"/>
                  <a:pt x="13593" y="8260"/>
                </a:cubicBezTo>
                <a:cubicBezTo>
                  <a:pt x="13633" y="8307"/>
                  <a:pt x="13624" y="8320"/>
                  <a:pt x="13667" y="8334"/>
                </a:cubicBezTo>
              </a:path>
              <a:path w="2332" h="3970">
                <a:moveTo>
                  <a:pt x="13519" y="7888"/>
                </a:moveTo>
                <a:cubicBezTo>
                  <a:pt x="13497" y="7955"/>
                  <a:pt x="13487" y="8026"/>
                  <a:pt x="13469" y="8086"/>
                </a:cubicBezTo>
                <a:cubicBezTo>
                  <a:pt x="13458" y="8121"/>
                  <a:pt x="13437" y="8134"/>
                  <a:pt x="13419" y="8186"/>
                </a:cubicBezTo>
                <a:cubicBezTo>
                  <a:pt x="13396" y="8254"/>
                  <a:pt x="13370" y="8285"/>
                  <a:pt x="13370" y="8359"/>
                </a:cubicBezTo>
              </a:path>
              <a:path w="2332" h="3970">
                <a:moveTo>
                  <a:pt x="14536" y="8186"/>
                </a:moveTo>
                <a:cubicBezTo>
                  <a:pt x="14536" y="8178"/>
                  <a:pt x="14536" y="8169"/>
                  <a:pt x="14536" y="8161"/>
                </a:cubicBezTo>
              </a:path>
              <a:path w="2332" h="3970">
                <a:moveTo>
                  <a:pt x="14858" y="7764"/>
                </a:moveTo>
                <a:cubicBezTo>
                  <a:pt x="14796" y="7794"/>
                  <a:pt x="14808" y="7843"/>
                  <a:pt x="14808" y="7913"/>
                </a:cubicBezTo>
                <a:cubicBezTo>
                  <a:pt x="14808" y="7964"/>
                  <a:pt x="14790" y="8048"/>
                  <a:pt x="14833" y="8062"/>
                </a:cubicBezTo>
                <a:cubicBezTo>
                  <a:pt x="14897" y="8083"/>
                  <a:pt x="14942" y="8086"/>
                  <a:pt x="15007" y="8086"/>
                </a:cubicBezTo>
                <a:cubicBezTo>
                  <a:pt x="15032" y="8086"/>
                  <a:pt x="15056" y="8086"/>
                  <a:pt x="15081" y="8086"/>
                </a:cubicBezTo>
                <a:cubicBezTo>
                  <a:pt x="15081" y="8012"/>
                  <a:pt x="15081" y="7937"/>
                  <a:pt x="15081" y="7863"/>
                </a:cubicBezTo>
                <a:cubicBezTo>
                  <a:pt x="15081" y="7971"/>
                  <a:pt x="15081" y="8028"/>
                  <a:pt x="15081" y="8136"/>
                </a:cubicBezTo>
                <a:cubicBezTo>
                  <a:pt x="15081" y="8252"/>
                  <a:pt x="15081" y="8367"/>
                  <a:pt x="15081" y="8483"/>
                </a:cubicBezTo>
              </a:path>
              <a:path w="2332" h="3970">
                <a:moveTo>
                  <a:pt x="13370" y="8954"/>
                </a:moveTo>
                <a:cubicBezTo>
                  <a:pt x="13455" y="8933"/>
                  <a:pt x="13552" y="8911"/>
                  <a:pt x="13643" y="8905"/>
                </a:cubicBezTo>
                <a:cubicBezTo>
                  <a:pt x="13885" y="8888"/>
                  <a:pt x="14121" y="8827"/>
                  <a:pt x="14362" y="8806"/>
                </a:cubicBezTo>
                <a:cubicBezTo>
                  <a:pt x="14576" y="8787"/>
                  <a:pt x="14770" y="8807"/>
                  <a:pt x="14982" y="8756"/>
                </a:cubicBezTo>
                <a:cubicBezTo>
                  <a:pt x="15111" y="8725"/>
                  <a:pt x="15193" y="8694"/>
                  <a:pt x="15304" y="8632"/>
                </a:cubicBezTo>
                <a:cubicBezTo>
                  <a:pt x="15370" y="8595"/>
                  <a:pt x="15401" y="8605"/>
                  <a:pt x="15453" y="8582"/>
                </a:cubicBezTo>
                <a:cubicBezTo>
                  <a:pt x="15453" y="8558"/>
                  <a:pt x="15453" y="8550"/>
                  <a:pt x="15478" y="8558"/>
                </a:cubicBezTo>
              </a:path>
              <a:path w="2332" h="3970">
                <a:moveTo>
                  <a:pt x="15304" y="9153"/>
                </a:moveTo>
                <a:cubicBezTo>
                  <a:pt x="15204" y="9153"/>
                  <a:pt x="15140" y="9132"/>
                  <a:pt x="15081" y="9203"/>
                </a:cubicBezTo>
                <a:cubicBezTo>
                  <a:pt x="15057" y="9232"/>
                  <a:pt x="15036" y="9264"/>
                  <a:pt x="15032" y="9302"/>
                </a:cubicBezTo>
                <a:cubicBezTo>
                  <a:pt x="15026" y="9360"/>
                  <a:pt x="15024" y="9428"/>
                  <a:pt x="15056" y="9451"/>
                </a:cubicBezTo>
                <a:cubicBezTo>
                  <a:pt x="15099" y="9483"/>
                  <a:pt x="15123" y="9475"/>
                  <a:pt x="15180" y="9475"/>
                </a:cubicBezTo>
                <a:cubicBezTo>
                  <a:pt x="15219" y="9475"/>
                  <a:pt x="15331" y="9496"/>
                  <a:pt x="15354" y="9451"/>
                </a:cubicBezTo>
                <a:cubicBezTo>
                  <a:pt x="15369" y="9421"/>
                  <a:pt x="15402" y="9360"/>
                  <a:pt x="15404" y="9327"/>
                </a:cubicBezTo>
                <a:cubicBezTo>
                  <a:pt x="15409" y="9261"/>
                  <a:pt x="15404" y="9194"/>
                  <a:pt x="15404" y="9128"/>
                </a:cubicBezTo>
                <a:cubicBezTo>
                  <a:pt x="15350" y="9128"/>
                  <a:pt x="15367" y="9116"/>
                  <a:pt x="15329" y="9103"/>
                </a:cubicBezTo>
              </a:path>
              <a:path w="2332" h="3970">
                <a:moveTo>
                  <a:pt x="13742" y="6028"/>
                </a:moveTo>
                <a:cubicBezTo>
                  <a:pt x="13791" y="5988"/>
                  <a:pt x="13835" y="5980"/>
                  <a:pt x="13891" y="5953"/>
                </a:cubicBezTo>
                <a:cubicBezTo>
                  <a:pt x="13942" y="5929"/>
                  <a:pt x="13961" y="5928"/>
                  <a:pt x="14015" y="5928"/>
                </a:cubicBezTo>
                <a:cubicBezTo>
                  <a:pt x="14023" y="5928"/>
                  <a:pt x="14031" y="5928"/>
                  <a:pt x="14039" y="5928"/>
                </a:cubicBezTo>
                <a:cubicBezTo>
                  <a:pt x="14039" y="6040"/>
                  <a:pt x="14081" y="6234"/>
                  <a:pt x="14015" y="6325"/>
                </a:cubicBezTo>
                <a:cubicBezTo>
                  <a:pt x="13963" y="6398"/>
                  <a:pt x="13908" y="6444"/>
                  <a:pt x="13841" y="6499"/>
                </a:cubicBezTo>
                <a:cubicBezTo>
                  <a:pt x="13766" y="6561"/>
                  <a:pt x="13719" y="6591"/>
                  <a:pt x="13618" y="6598"/>
                </a:cubicBezTo>
                <a:cubicBezTo>
                  <a:pt x="13610" y="6598"/>
                  <a:pt x="13601" y="6598"/>
                  <a:pt x="13593" y="6598"/>
                </a:cubicBezTo>
                <a:cubicBezTo>
                  <a:pt x="13593" y="6530"/>
                  <a:pt x="13581" y="6460"/>
                  <a:pt x="13618" y="6400"/>
                </a:cubicBezTo>
                <a:cubicBezTo>
                  <a:pt x="13654" y="6342"/>
                  <a:pt x="13720" y="6320"/>
                  <a:pt x="13767" y="6276"/>
                </a:cubicBezTo>
                <a:cubicBezTo>
                  <a:pt x="13801" y="6244"/>
                  <a:pt x="13820" y="6251"/>
                  <a:pt x="13866" y="6251"/>
                </a:cubicBezTo>
                <a:cubicBezTo>
                  <a:pt x="13921" y="6251"/>
                  <a:pt x="13946" y="6266"/>
                  <a:pt x="13990" y="6300"/>
                </a:cubicBezTo>
              </a:path>
              <a:path w="2332" h="3970">
                <a:moveTo>
                  <a:pt x="13742" y="9153"/>
                </a:moveTo>
                <a:cubicBezTo>
                  <a:pt x="13742" y="9335"/>
                  <a:pt x="13742" y="9517"/>
                  <a:pt x="13742" y="9699"/>
                </a:cubicBezTo>
              </a:path>
              <a:path w="2332" h="3970">
                <a:moveTo>
                  <a:pt x="14238" y="9252"/>
                </a:moveTo>
                <a:cubicBezTo>
                  <a:pt x="14210" y="9308"/>
                  <a:pt x="14213" y="9359"/>
                  <a:pt x="14213" y="9426"/>
                </a:cubicBezTo>
                <a:cubicBezTo>
                  <a:pt x="14213" y="9504"/>
                  <a:pt x="14219" y="9579"/>
                  <a:pt x="14238" y="9624"/>
                </a:cubicBezTo>
                <a:cubicBezTo>
                  <a:pt x="14258" y="9670"/>
                  <a:pt x="14257" y="9674"/>
                  <a:pt x="14312" y="9674"/>
                </a:cubicBezTo>
                <a:cubicBezTo>
                  <a:pt x="14378" y="9674"/>
                  <a:pt x="14461" y="9693"/>
                  <a:pt x="14511" y="9649"/>
                </a:cubicBezTo>
                <a:cubicBezTo>
                  <a:pt x="14528" y="9634"/>
                  <a:pt x="14584" y="9604"/>
                  <a:pt x="14585" y="9599"/>
                </a:cubicBezTo>
                <a:cubicBezTo>
                  <a:pt x="14607" y="9521"/>
                  <a:pt x="14585" y="9408"/>
                  <a:pt x="14585" y="9327"/>
                </a:cubicBezTo>
                <a:cubicBezTo>
                  <a:pt x="14526" y="9327"/>
                  <a:pt x="14491" y="9313"/>
                  <a:pt x="14436" y="9302"/>
                </a:cubicBezTo>
              </a:path>
              <a:path w="2332" h="3970">
                <a:moveTo>
                  <a:pt x="14635" y="8310"/>
                </a:moveTo>
                <a:cubicBezTo>
                  <a:pt x="14645" y="8385"/>
                  <a:pt x="14675" y="8439"/>
                  <a:pt x="14709" y="8508"/>
                </a:cubicBezTo>
                <a:cubicBezTo>
                  <a:pt x="14725" y="8541"/>
                  <a:pt x="14739" y="8619"/>
                  <a:pt x="14784" y="8632"/>
                </a:cubicBezTo>
                <a:cubicBezTo>
                  <a:pt x="14837" y="8647"/>
                  <a:pt x="14873" y="8657"/>
                  <a:pt x="14932" y="8657"/>
                </a:cubicBezTo>
                <a:cubicBezTo>
                  <a:pt x="15034" y="8657"/>
                  <a:pt x="15105" y="8677"/>
                  <a:pt x="15180" y="8607"/>
                </a:cubicBezTo>
                <a:cubicBezTo>
                  <a:pt x="15210" y="8579"/>
                  <a:pt x="15280" y="8474"/>
                  <a:pt x="15304" y="8458"/>
                </a:cubicBezTo>
                <a:cubicBezTo>
                  <a:pt x="15343" y="8432"/>
                  <a:pt x="15390" y="8399"/>
                  <a:pt x="15429" y="8359"/>
                </a:cubicBezTo>
                <a:cubicBezTo>
                  <a:pt x="15461" y="8326"/>
                  <a:pt x="15453" y="8304"/>
                  <a:pt x="15453" y="8260"/>
                </a:cubicBezTo>
              </a:path>
              <a:path w="2332" h="3970">
                <a:moveTo>
                  <a:pt x="15602" y="9302"/>
                </a:moveTo>
                <a:cubicBezTo>
                  <a:pt x="15583" y="9360"/>
                  <a:pt x="15556" y="9293"/>
                  <a:pt x="15528" y="9327"/>
                </a:cubicBezTo>
                <a:cubicBezTo>
                  <a:pt x="15509" y="9350"/>
                  <a:pt x="15503" y="9358"/>
                  <a:pt x="15503" y="9401"/>
                </a:cubicBezTo>
                <a:cubicBezTo>
                  <a:pt x="15503" y="9453"/>
                  <a:pt x="15462" y="9485"/>
                  <a:pt x="15453" y="9525"/>
                </a:cubicBezTo>
                <a:cubicBezTo>
                  <a:pt x="15439" y="9591"/>
                  <a:pt x="15404" y="9642"/>
                  <a:pt x="15379" y="9699"/>
                </a:cubicBezTo>
                <a:cubicBezTo>
                  <a:pt x="15361" y="9740"/>
                  <a:pt x="15292" y="9851"/>
                  <a:pt x="15255" y="9872"/>
                </a:cubicBezTo>
                <a:cubicBezTo>
                  <a:pt x="15224" y="9889"/>
                  <a:pt x="15228" y="9897"/>
                  <a:pt x="15180" y="9897"/>
                </a:cubicBezTo>
                <a:cubicBezTo>
                  <a:pt x="15110" y="9897"/>
                  <a:pt x="15015" y="9910"/>
                  <a:pt x="14982" y="9872"/>
                </a:cubicBezTo>
                <a:cubicBezTo>
                  <a:pt x="14962" y="9850"/>
                  <a:pt x="14891" y="9810"/>
                  <a:pt x="14883" y="9798"/>
                </a:cubicBezTo>
                <a:cubicBezTo>
                  <a:pt x="14872" y="9782"/>
                  <a:pt x="14835" y="9726"/>
                  <a:pt x="14833" y="9723"/>
                </a:cubicBezTo>
                <a:cubicBezTo>
                  <a:pt x="14822" y="9703"/>
                  <a:pt x="14810" y="9646"/>
                  <a:pt x="14808" y="9624"/>
                </a:cubicBezTo>
                <a:cubicBezTo>
                  <a:pt x="14808" y="9599"/>
                  <a:pt x="14808" y="9591"/>
                  <a:pt x="14808" y="9575"/>
                </a:cubicBezTo>
                <a:cubicBezTo>
                  <a:pt x="14847" y="9575"/>
                  <a:pt x="14878" y="9591"/>
                  <a:pt x="14883" y="9550"/>
                </a:cubicBezTo>
                <a:cubicBezTo>
                  <a:pt x="14891" y="9489"/>
                  <a:pt x="14871" y="9453"/>
                  <a:pt x="14858" y="9426"/>
                </a:cubicBezTo>
                <a:cubicBezTo>
                  <a:pt x="14843" y="9396"/>
                  <a:pt x="14823" y="9456"/>
                  <a:pt x="14808" y="9426"/>
                </a:cubicBezTo>
                <a:cubicBezTo>
                  <a:pt x="14808" y="9401"/>
                  <a:pt x="14808" y="9393"/>
                  <a:pt x="14808" y="9376"/>
                </a:cubicBezTo>
                <a:cubicBezTo>
                  <a:pt x="14800" y="9376"/>
                  <a:pt x="14792" y="9376"/>
                  <a:pt x="14784" y="9376"/>
                </a:cubicBezTo>
                <a:cubicBezTo>
                  <a:pt x="14784" y="9436"/>
                  <a:pt x="14794" y="9471"/>
                  <a:pt x="14808" y="9500"/>
                </a:cubicBezTo>
                <a:cubicBezTo>
                  <a:pt x="14815" y="9515"/>
                  <a:pt x="14808" y="9558"/>
                  <a:pt x="14808" y="9575"/>
                </a:cubicBezTo>
                <a:cubicBezTo>
                  <a:pt x="14847" y="9575"/>
                  <a:pt x="14878" y="9591"/>
                  <a:pt x="14883" y="9550"/>
                </a:cubicBezTo>
                <a:cubicBezTo>
                  <a:pt x="14883" y="9542"/>
                  <a:pt x="14883" y="9533"/>
                  <a:pt x="14883" y="95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98720" y="2919240"/>
            <a:ext cx="633240" cy="28800"/>
          </a:xfrm>
          <a:custGeom>
            <a:avLst/>
            <a:gdLst/>
            <a:ahLst/>
            <a:rect l="l" t="t" r="r" b="b"/>
            <a:pathLst>
              <a:path w="1762" h="76">
                <a:moveTo>
                  <a:pt x="3051" y="8186"/>
                </a:moveTo>
                <a:cubicBezTo>
                  <a:pt x="3142" y="8175"/>
                  <a:pt x="3232" y="8146"/>
                  <a:pt x="3324" y="8136"/>
                </a:cubicBezTo>
                <a:cubicBezTo>
                  <a:pt x="3410" y="8127"/>
                  <a:pt x="3490" y="8125"/>
                  <a:pt x="3572" y="8111"/>
                </a:cubicBezTo>
                <a:cubicBezTo>
                  <a:pt x="3962" y="8045"/>
                  <a:pt x="4416" y="8111"/>
                  <a:pt x="4812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2963880"/>
            <a:ext cx="177840" cy="17136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3696" y="8285"/>
                </a:moveTo>
                <a:cubicBezTo>
                  <a:pt x="3758" y="8285"/>
                  <a:pt x="3787" y="8253"/>
                  <a:pt x="3845" y="8235"/>
                </a:cubicBezTo>
                <a:cubicBezTo>
                  <a:pt x="3892" y="8220"/>
                  <a:pt x="3968" y="8235"/>
                  <a:pt x="4018" y="8235"/>
                </a:cubicBezTo>
                <a:cubicBezTo>
                  <a:pt x="4018" y="8288"/>
                  <a:pt x="4035" y="8368"/>
                  <a:pt x="3994" y="8409"/>
                </a:cubicBezTo>
                <a:cubicBezTo>
                  <a:pt x="3970" y="8433"/>
                  <a:pt x="3873" y="8517"/>
                  <a:pt x="3845" y="8533"/>
                </a:cubicBezTo>
                <a:cubicBezTo>
                  <a:pt x="3810" y="8554"/>
                  <a:pt x="3762" y="8614"/>
                  <a:pt x="3721" y="8632"/>
                </a:cubicBezTo>
                <a:cubicBezTo>
                  <a:pt x="3676" y="8652"/>
                  <a:pt x="3652" y="8682"/>
                  <a:pt x="3597" y="8682"/>
                </a:cubicBezTo>
                <a:cubicBezTo>
                  <a:pt x="3612" y="8727"/>
                  <a:pt x="3693" y="8706"/>
                  <a:pt x="3746" y="8706"/>
                </a:cubicBezTo>
                <a:cubicBezTo>
                  <a:pt x="3819" y="8706"/>
                  <a:pt x="3901" y="8704"/>
                  <a:pt x="3969" y="8682"/>
                </a:cubicBezTo>
                <a:cubicBezTo>
                  <a:pt x="4023" y="8665"/>
                  <a:pt x="4038" y="8657"/>
                  <a:pt x="4093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7120" y="2973240"/>
            <a:ext cx="115920" cy="135000"/>
          </a:xfrm>
          <a:custGeom>
            <a:avLst/>
            <a:gdLst/>
            <a:ahLst/>
            <a:rect l="l" t="t" r="r" b="b"/>
            <a:pathLst>
              <a:path w="323" h="373">
                <a:moveTo>
                  <a:pt x="4490" y="8260"/>
                </a:moveTo>
                <a:cubicBezTo>
                  <a:pt x="4407" y="8260"/>
                  <a:pt x="4325" y="8260"/>
                  <a:pt x="4242" y="8260"/>
                </a:cubicBezTo>
                <a:cubicBezTo>
                  <a:pt x="4242" y="8323"/>
                  <a:pt x="4217" y="8491"/>
                  <a:pt x="4266" y="8508"/>
                </a:cubicBezTo>
                <a:cubicBezTo>
                  <a:pt x="4297" y="8492"/>
                  <a:pt x="4324" y="8442"/>
                  <a:pt x="4341" y="8434"/>
                </a:cubicBezTo>
                <a:cubicBezTo>
                  <a:pt x="4371" y="8420"/>
                  <a:pt x="4369" y="8389"/>
                  <a:pt x="4415" y="8384"/>
                </a:cubicBezTo>
                <a:cubicBezTo>
                  <a:pt x="4463" y="8379"/>
                  <a:pt x="4515" y="8384"/>
                  <a:pt x="4564" y="8384"/>
                </a:cubicBezTo>
                <a:cubicBezTo>
                  <a:pt x="4564" y="8428"/>
                  <a:pt x="4585" y="8535"/>
                  <a:pt x="4539" y="8558"/>
                </a:cubicBezTo>
                <a:cubicBezTo>
                  <a:pt x="4507" y="8574"/>
                  <a:pt x="4474" y="8617"/>
                  <a:pt x="4440" y="8632"/>
                </a:cubicBezTo>
                <a:cubicBezTo>
                  <a:pt x="4386" y="8656"/>
                  <a:pt x="4310" y="8616"/>
                  <a:pt x="4291" y="8607"/>
                </a:cubicBezTo>
                <a:cubicBezTo>
                  <a:pt x="4266" y="8607"/>
                  <a:pt x="4258" y="8607"/>
                  <a:pt x="4266" y="85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93920" y="2428920"/>
            <a:ext cx="44280" cy="660240"/>
          </a:xfrm>
          <a:custGeom>
            <a:avLst/>
            <a:gdLst/>
            <a:ahLst/>
            <a:rect l="l" t="t" r="r" b="b"/>
            <a:pathLst>
              <a:path w="125" h="1836">
                <a:moveTo>
                  <a:pt x="3894" y="6747"/>
                </a:moveTo>
                <a:cubicBezTo>
                  <a:pt x="3873" y="6811"/>
                  <a:pt x="3870" y="6869"/>
                  <a:pt x="3870" y="6945"/>
                </a:cubicBezTo>
                <a:cubicBezTo>
                  <a:pt x="3870" y="7162"/>
                  <a:pt x="3842" y="7406"/>
                  <a:pt x="3894" y="7615"/>
                </a:cubicBezTo>
                <a:cubicBezTo>
                  <a:pt x="3915" y="7701"/>
                  <a:pt x="3901" y="7780"/>
                  <a:pt x="3919" y="7863"/>
                </a:cubicBezTo>
                <a:cubicBezTo>
                  <a:pt x="3929" y="7907"/>
                  <a:pt x="3942" y="7941"/>
                  <a:pt x="3944" y="7987"/>
                </a:cubicBezTo>
                <a:cubicBezTo>
                  <a:pt x="3951" y="8151"/>
                  <a:pt x="3905" y="8415"/>
                  <a:pt x="3969" y="8533"/>
                </a:cubicBezTo>
                <a:cubicBezTo>
                  <a:pt x="3969" y="8561"/>
                  <a:pt x="3971" y="8572"/>
                  <a:pt x="3994" y="8582"/>
                </a:cubicBezTo>
                <a:cubicBezTo>
                  <a:pt x="3994" y="8541"/>
                  <a:pt x="3994" y="8499"/>
                  <a:pt x="3994" y="84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Multiplica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) 4n = 8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) 42 = 6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.) 120 = 3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ord Proble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.) You purchase 4 new Wii games for $164. Write a multiplication equation you can use to find the cost of a game. (they are all the same price). Then solve the equation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1598760" y="5830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440" y="16197"/>
                </a:moveTo>
                <a:lnTo>
                  <a:pt x="4440" y="1619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6680" y="3446640"/>
            <a:ext cx="930240" cy="438120"/>
          </a:xfrm>
          <a:custGeom>
            <a:avLst/>
            <a:gdLst/>
            <a:ahLst/>
            <a:rect l="l" t="t" r="r" b="b"/>
            <a:pathLst>
              <a:path w="2581" h="1216">
                <a:moveTo>
                  <a:pt x="7888" y="9699"/>
                </a:moveTo>
                <a:cubicBezTo>
                  <a:pt x="7888" y="9927"/>
                  <a:pt x="7838" y="10064"/>
                  <a:pt x="7739" y="10269"/>
                </a:cubicBezTo>
                <a:cubicBezTo>
                  <a:pt x="7728" y="10312"/>
                  <a:pt x="7792" y="10158"/>
                  <a:pt x="8037" y="10220"/>
                </a:cubicBezTo>
                <a:cubicBezTo>
                  <a:pt x="8171" y="10264"/>
                  <a:pt x="8207" y="10274"/>
                  <a:pt x="8285" y="10319"/>
                </a:cubicBezTo>
              </a:path>
              <a:path w="2581" h="1216">
                <a:moveTo>
                  <a:pt x="8186" y="9575"/>
                </a:moveTo>
                <a:cubicBezTo>
                  <a:pt x="8225" y="9892"/>
                  <a:pt x="8235" y="10195"/>
                  <a:pt x="8235" y="10517"/>
                </a:cubicBezTo>
                <a:cubicBezTo>
                  <a:pt x="8235" y="10674"/>
                  <a:pt x="8235" y="10699"/>
                  <a:pt x="8235" y="10790"/>
                </a:cubicBezTo>
              </a:path>
              <a:path w="2581" h="1216">
                <a:moveTo>
                  <a:pt x="8781" y="10071"/>
                </a:moveTo>
                <a:cubicBezTo>
                  <a:pt x="8779" y="10115"/>
                  <a:pt x="8786" y="10678"/>
                  <a:pt x="8806" y="10666"/>
                </a:cubicBezTo>
                <a:cubicBezTo>
                  <a:pt x="8910" y="10605"/>
                  <a:pt x="8930" y="10326"/>
                  <a:pt x="8954" y="10220"/>
                </a:cubicBezTo>
                <a:cubicBezTo>
                  <a:pt x="8978" y="10475"/>
                  <a:pt x="8973" y="10521"/>
                  <a:pt x="9153" y="10691"/>
                </a:cubicBezTo>
                <a:cubicBezTo>
                  <a:pt x="9323" y="10553"/>
                  <a:pt x="9545" y="10282"/>
                  <a:pt x="9277" y="10071"/>
                </a:cubicBezTo>
                <a:cubicBezTo>
                  <a:pt x="9236" y="10063"/>
                  <a:pt x="9194" y="10054"/>
                  <a:pt x="9153" y="10046"/>
                </a:cubicBezTo>
              </a:path>
              <a:path w="2581" h="1216">
                <a:moveTo>
                  <a:pt x="9897" y="10120"/>
                </a:moveTo>
                <a:cubicBezTo>
                  <a:pt x="10035" y="10078"/>
                  <a:pt x="10149" y="10076"/>
                  <a:pt x="10294" y="10071"/>
                </a:cubicBezTo>
              </a:path>
              <a:path w="2581" h="1216">
                <a:moveTo>
                  <a:pt x="9996" y="10368"/>
                </a:moveTo>
                <a:cubicBezTo>
                  <a:pt x="10037" y="10368"/>
                  <a:pt x="10079" y="10368"/>
                  <a:pt x="10120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3040" y="3357720"/>
            <a:ext cx="581040" cy="420480"/>
          </a:xfrm>
          <a:custGeom>
            <a:avLst/>
            <a:gdLst/>
            <a:ahLst/>
            <a:rect l="l" t="t" r="r" b="b"/>
            <a:pathLst>
              <a:path w="1613" h="1166">
                <a:moveTo>
                  <a:pt x="11063" y="9575"/>
                </a:moveTo>
                <a:cubicBezTo>
                  <a:pt x="11114" y="9883"/>
                  <a:pt x="11152" y="10180"/>
                  <a:pt x="11162" y="10492"/>
                </a:cubicBezTo>
              </a:path>
              <a:path w="1613" h="1166">
                <a:moveTo>
                  <a:pt x="11534" y="9699"/>
                </a:moveTo>
                <a:cubicBezTo>
                  <a:pt x="11483" y="9881"/>
                  <a:pt x="11430" y="10113"/>
                  <a:pt x="11534" y="10294"/>
                </a:cubicBezTo>
                <a:cubicBezTo>
                  <a:pt x="11650" y="10496"/>
                  <a:pt x="11903" y="10355"/>
                  <a:pt x="11931" y="10170"/>
                </a:cubicBezTo>
                <a:cubicBezTo>
                  <a:pt x="11903" y="10086"/>
                  <a:pt x="11884" y="10056"/>
                  <a:pt x="11807" y="10046"/>
                </a:cubicBezTo>
                <a:cubicBezTo>
                  <a:pt x="11653" y="10149"/>
                  <a:pt x="11623" y="10226"/>
                  <a:pt x="11708" y="10393"/>
                </a:cubicBezTo>
              </a:path>
              <a:path w="1613" h="1166">
                <a:moveTo>
                  <a:pt x="12278" y="9649"/>
                </a:moveTo>
                <a:cubicBezTo>
                  <a:pt x="12278" y="9747"/>
                  <a:pt x="12278" y="9830"/>
                  <a:pt x="12254" y="9922"/>
                </a:cubicBezTo>
                <a:cubicBezTo>
                  <a:pt x="12386" y="9922"/>
                  <a:pt x="12518" y="9922"/>
                  <a:pt x="12650" y="9922"/>
                </a:cubicBezTo>
              </a:path>
              <a:path w="1613" h="1166">
                <a:moveTo>
                  <a:pt x="12601" y="9327"/>
                </a:moveTo>
                <a:cubicBezTo>
                  <a:pt x="12644" y="9607"/>
                  <a:pt x="12663" y="9886"/>
                  <a:pt x="12675" y="10170"/>
                </a:cubicBezTo>
                <a:cubicBezTo>
                  <a:pt x="12675" y="10294"/>
                  <a:pt x="12675" y="10319"/>
                  <a:pt x="12675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29160" y="3152880"/>
            <a:ext cx="1009800" cy="1054080"/>
          </a:xfrm>
          <a:custGeom>
            <a:avLst/>
            <a:gdLst/>
            <a:ahLst/>
            <a:rect l="l" t="t" r="r" b="b"/>
            <a:pathLst>
              <a:path w="2804" h="2928">
                <a:moveTo>
                  <a:pt x="16148" y="9599"/>
                </a:moveTo>
                <a:cubicBezTo>
                  <a:pt x="16126" y="9790"/>
                  <a:pt x="16102" y="9980"/>
                  <a:pt x="16073" y="10170"/>
                </a:cubicBezTo>
              </a:path>
              <a:path w="2804" h="2928">
                <a:moveTo>
                  <a:pt x="16545" y="9599"/>
                </a:moveTo>
                <a:cubicBezTo>
                  <a:pt x="16493" y="9755"/>
                  <a:pt x="16382" y="9951"/>
                  <a:pt x="16421" y="10120"/>
                </a:cubicBezTo>
                <a:cubicBezTo>
                  <a:pt x="16459" y="10283"/>
                  <a:pt x="16756" y="10105"/>
                  <a:pt x="16793" y="10021"/>
                </a:cubicBezTo>
                <a:cubicBezTo>
                  <a:pt x="16793" y="9988"/>
                  <a:pt x="16793" y="9955"/>
                  <a:pt x="16793" y="9922"/>
                </a:cubicBezTo>
                <a:cubicBezTo>
                  <a:pt x="16604" y="9910"/>
                  <a:pt x="16544" y="9950"/>
                  <a:pt x="16545" y="10145"/>
                </a:cubicBezTo>
              </a:path>
              <a:path w="2804" h="2928">
                <a:moveTo>
                  <a:pt x="17066" y="9723"/>
                </a:moveTo>
                <a:cubicBezTo>
                  <a:pt x="16985" y="9944"/>
                  <a:pt x="17144" y="9858"/>
                  <a:pt x="17314" y="9823"/>
                </a:cubicBezTo>
              </a:path>
              <a:path w="2804" h="2928">
                <a:moveTo>
                  <a:pt x="17413" y="9550"/>
                </a:moveTo>
                <a:cubicBezTo>
                  <a:pt x="17368" y="9797"/>
                  <a:pt x="17354" y="9863"/>
                  <a:pt x="17338" y="10021"/>
                </a:cubicBezTo>
              </a:path>
              <a:path w="2804" h="2928">
                <a:moveTo>
                  <a:pt x="16222" y="10517"/>
                </a:moveTo>
                <a:cubicBezTo>
                  <a:pt x="16105" y="10303"/>
                  <a:pt x="15936" y="10040"/>
                  <a:pt x="15900" y="9798"/>
                </a:cubicBezTo>
                <a:cubicBezTo>
                  <a:pt x="15884" y="9693"/>
                  <a:pt x="15864" y="9479"/>
                  <a:pt x="15974" y="9451"/>
                </a:cubicBezTo>
                <a:cubicBezTo>
                  <a:pt x="16469" y="9325"/>
                  <a:pt x="16983" y="9396"/>
                  <a:pt x="17487" y="9376"/>
                </a:cubicBezTo>
                <a:cubicBezTo>
                  <a:pt x="17719" y="9357"/>
                  <a:pt x="17751" y="9348"/>
                  <a:pt x="17884" y="9351"/>
                </a:cubicBezTo>
              </a:path>
              <a:path w="2804" h="2928">
                <a:moveTo>
                  <a:pt x="15180" y="9723"/>
                </a:moveTo>
                <a:cubicBezTo>
                  <a:pt x="15134" y="9817"/>
                  <a:pt x="15100" y="9940"/>
                  <a:pt x="15081" y="10046"/>
                </a:cubicBezTo>
                <a:cubicBezTo>
                  <a:pt x="15178" y="10078"/>
                  <a:pt x="15227" y="10083"/>
                  <a:pt x="15304" y="10046"/>
                </a:cubicBezTo>
              </a:path>
              <a:path w="2804" h="2928">
                <a:moveTo>
                  <a:pt x="15429" y="9723"/>
                </a:moveTo>
                <a:cubicBezTo>
                  <a:pt x="15373" y="9938"/>
                  <a:pt x="15321" y="10146"/>
                  <a:pt x="15304" y="10368"/>
                </a:cubicBezTo>
              </a:path>
              <a:path w="2804" h="2928">
                <a:moveTo>
                  <a:pt x="16594" y="8756"/>
                </a:moveTo>
                <a:cubicBezTo>
                  <a:pt x="16503" y="9044"/>
                  <a:pt x="16529" y="9040"/>
                  <a:pt x="16818" y="8979"/>
                </a:cubicBezTo>
              </a:path>
              <a:path w="2804" h="2928">
                <a:moveTo>
                  <a:pt x="16842" y="8756"/>
                </a:moveTo>
                <a:cubicBezTo>
                  <a:pt x="16798" y="8957"/>
                  <a:pt x="16752" y="9154"/>
                  <a:pt x="16694" y="9351"/>
                </a:cubicBezTo>
              </a:path>
              <a:path w="2804" h="2928">
                <a:moveTo>
                  <a:pt x="17239" y="8905"/>
                </a:moveTo>
                <a:cubicBezTo>
                  <a:pt x="17216" y="9087"/>
                  <a:pt x="17210" y="9137"/>
                  <a:pt x="17190" y="9252"/>
                </a:cubicBezTo>
              </a:path>
              <a:path w="2804" h="2928">
                <a:moveTo>
                  <a:pt x="16346" y="10443"/>
                </a:moveTo>
                <a:cubicBezTo>
                  <a:pt x="16302" y="10575"/>
                  <a:pt x="16259" y="10706"/>
                  <a:pt x="16222" y="10840"/>
                </a:cubicBezTo>
              </a:path>
              <a:path w="2804" h="2928">
                <a:moveTo>
                  <a:pt x="16545" y="10468"/>
                </a:moveTo>
                <a:cubicBezTo>
                  <a:pt x="16509" y="10550"/>
                  <a:pt x="16388" y="10752"/>
                  <a:pt x="16520" y="10815"/>
                </a:cubicBezTo>
                <a:cubicBezTo>
                  <a:pt x="16622" y="10864"/>
                  <a:pt x="16692" y="10747"/>
                  <a:pt x="16743" y="10691"/>
                </a:cubicBezTo>
                <a:cubicBezTo>
                  <a:pt x="16637" y="10718"/>
                  <a:pt x="16600" y="10732"/>
                  <a:pt x="16570" y="10815"/>
                </a:cubicBezTo>
              </a:path>
              <a:path w="2804" h="2928">
                <a:moveTo>
                  <a:pt x="16098" y="11088"/>
                </a:moveTo>
                <a:cubicBezTo>
                  <a:pt x="16339" y="11050"/>
                  <a:pt x="16578" y="11007"/>
                  <a:pt x="16818" y="10964"/>
                </a:cubicBezTo>
              </a:path>
              <a:path w="2804" h="2928">
                <a:moveTo>
                  <a:pt x="16644" y="11261"/>
                </a:moveTo>
                <a:cubicBezTo>
                  <a:pt x="16551" y="11440"/>
                  <a:pt x="16524" y="11484"/>
                  <a:pt x="16545" y="11683"/>
                </a:cubicBezTo>
                <a:cubicBezTo>
                  <a:pt x="16721" y="11650"/>
                  <a:pt x="16879" y="11534"/>
                  <a:pt x="16818" y="11311"/>
                </a:cubicBezTo>
                <a:cubicBezTo>
                  <a:pt x="16793" y="11278"/>
                  <a:pt x="16768" y="11245"/>
                  <a:pt x="16743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7680" y="3438360"/>
            <a:ext cx="465120" cy="830520"/>
          </a:xfrm>
          <a:custGeom>
            <a:avLst/>
            <a:gdLst/>
            <a:ahLst/>
            <a:rect l="l" t="t" r="r" b="b"/>
            <a:pathLst>
              <a:path w="1290" h="2308">
                <a:moveTo>
                  <a:pt x="7938" y="11013"/>
                </a:moveTo>
                <a:cubicBezTo>
                  <a:pt x="8129" y="11013"/>
                  <a:pt x="8318" y="10981"/>
                  <a:pt x="8508" y="10964"/>
                </a:cubicBezTo>
                <a:cubicBezTo>
                  <a:pt x="8750" y="10942"/>
                  <a:pt x="8985" y="10939"/>
                  <a:pt x="9227" y="10939"/>
                </a:cubicBezTo>
              </a:path>
              <a:path w="1290" h="2308">
                <a:moveTo>
                  <a:pt x="8533" y="11187"/>
                </a:moveTo>
                <a:cubicBezTo>
                  <a:pt x="8509" y="11263"/>
                  <a:pt x="8488" y="11337"/>
                  <a:pt x="8458" y="11410"/>
                </a:cubicBezTo>
                <a:cubicBezTo>
                  <a:pt x="8554" y="11474"/>
                  <a:pt x="8558" y="11449"/>
                  <a:pt x="8682" y="11435"/>
                </a:cubicBezTo>
              </a:path>
              <a:path w="1290" h="2308">
                <a:moveTo>
                  <a:pt x="8806" y="11137"/>
                </a:moveTo>
                <a:cubicBezTo>
                  <a:pt x="8771" y="11319"/>
                  <a:pt x="8737" y="11498"/>
                  <a:pt x="8731" y="11683"/>
                </a:cubicBezTo>
                <a:cubicBezTo>
                  <a:pt x="8731" y="11733"/>
                  <a:pt x="8731" y="11749"/>
                  <a:pt x="8731" y="11782"/>
                </a:cubicBezTo>
              </a:path>
              <a:path w="1290" h="2308">
                <a:moveTo>
                  <a:pt x="7987" y="9550"/>
                </a:moveTo>
                <a:cubicBezTo>
                  <a:pt x="7987" y="9662"/>
                  <a:pt x="8011" y="9724"/>
                  <a:pt x="8062" y="9823"/>
                </a:cubicBezTo>
                <a:cubicBezTo>
                  <a:pt x="8109" y="9914"/>
                  <a:pt x="8128" y="10023"/>
                  <a:pt x="8161" y="10120"/>
                </a:cubicBezTo>
                <a:cubicBezTo>
                  <a:pt x="8180" y="10178"/>
                  <a:pt x="8185" y="10236"/>
                  <a:pt x="8210" y="10294"/>
                </a:cubicBezTo>
                <a:cubicBezTo>
                  <a:pt x="8245" y="10373"/>
                  <a:pt x="8273" y="10457"/>
                  <a:pt x="8285" y="10542"/>
                </a:cubicBezTo>
                <a:cubicBezTo>
                  <a:pt x="8296" y="10619"/>
                  <a:pt x="8327" y="10691"/>
                  <a:pt x="8359" y="10765"/>
                </a:cubicBezTo>
                <a:cubicBezTo>
                  <a:pt x="8401" y="10863"/>
                  <a:pt x="8427" y="10960"/>
                  <a:pt x="8458" y="11063"/>
                </a:cubicBezTo>
                <a:cubicBezTo>
                  <a:pt x="8493" y="11178"/>
                  <a:pt x="8524" y="11294"/>
                  <a:pt x="8558" y="11410"/>
                </a:cubicBezTo>
                <a:cubicBezTo>
                  <a:pt x="8581" y="11489"/>
                  <a:pt x="8615" y="11579"/>
                  <a:pt x="8632" y="11658"/>
                </a:cubicBezTo>
                <a:cubicBezTo>
                  <a:pt x="8644" y="11717"/>
                  <a:pt x="8648" y="11776"/>
                  <a:pt x="8682" y="11832"/>
                </a:cubicBezTo>
                <a:cubicBezTo>
                  <a:pt x="8690" y="11840"/>
                  <a:pt x="8698" y="11849"/>
                  <a:pt x="8706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0960" y="3884760"/>
            <a:ext cx="573120" cy="276120"/>
          </a:xfrm>
          <a:custGeom>
            <a:avLst/>
            <a:gdLst/>
            <a:ahLst/>
            <a:rect l="l" t="t" r="r" b="b"/>
            <a:pathLst>
              <a:path w="1588" h="770">
                <a:moveTo>
                  <a:pt x="11088" y="10790"/>
                </a:moveTo>
                <a:cubicBezTo>
                  <a:pt x="11339" y="10835"/>
                  <a:pt x="11577" y="10797"/>
                  <a:pt x="11832" y="10790"/>
                </a:cubicBezTo>
                <a:cubicBezTo>
                  <a:pt x="12112" y="10782"/>
                  <a:pt x="12394" y="10790"/>
                  <a:pt x="12675" y="10790"/>
                </a:cubicBezTo>
              </a:path>
              <a:path w="1588" h="770">
                <a:moveTo>
                  <a:pt x="11708" y="11088"/>
                </a:moveTo>
                <a:cubicBezTo>
                  <a:pt x="11708" y="11162"/>
                  <a:pt x="11708" y="11237"/>
                  <a:pt x="11708" y="11311"/>
                </a:cubicBezTo>
                <a:cubicBezTo>
                  <a:pt x="11867" y="11318"/>
                  <a:pt x="11950" y="11304"/>
                  <a:pt x="12105" y="11261"/>
                </a:cubicBezTo>
              </a:path>
              <a:path w="1588" h="770">
                <a:moveTo>
                  <a:pt x="12080" y="10988"/>
                </a:moveTo>
                <a:cubicBezTo>
                  <a:pt x="12015" y="11183"/>
                  <a:pt x="12008" y="11308"/>
                  <a:pt x="12030" y="11509"/>
                </a:cubicBezTo>
                <a:cubicBezTo>
                  <a:pt x="12030" y="11526"/>
                  <a:pt x="12030" y="11542"/>
                  <a:pt x="12030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91120" y="3751200"/>
            <a:ext cx="385920" cy="919080"/>
          </a:xfrm>
          <a:custGeom>
            <a:avLst/>
            <a:gdLst/>
            <a:ahLst/>
            <a:rect l="l" t="t" r="r" b="b"/>
            <a:pathLst>
              <a:path w="1068" h="2556">
                <a:moveTo>
                  <a:pt x="17165" y="10418"/>
                </a:moveTo>
                <a:cubicBezTo>
                  <a:pt x="17165" y="10610"/>
                  <a:pt x="17147" y="10797"/>
                  <a:pt x="17140" y="10988"/>
                </a:cubicBezTo>
              </a:path>
              <a:path w="1068" h="2556">
                <a:moveTo>
                  <a:pt x="17041" y="10988"/>
                </a:moveTo>
                <a:cubicBezTo>
                  <a:pt x="17113" y="11134"/>
                  <a:pt x="17148" y="11078"/>
                  <a:pt x="17264" y="10988"/>
                </a:cubicBezTo>
              </a:path>
              <a:path w="1068" h="2556">
                <a:moveTo>
                  <a:pt x="17165" y="11286"/>
                </a:moveTo>
                <a:cubicBezTo>
                  <a:pt x="17165" y="11479"/>
                  <a:pt x="17116" y="11463"/>
                  <a:pt x="17289" y="11509"/>
                </a:cubicBezTo>
              </a:path>
              <a:path w="1068" h="2556">
                <a:moveTo>
                  <a:pt x="17413" y="11212"/>
                </a:moveTo>
                <a:cubicBezTo>
                  <a:pt x="17387" y="11379"/>
                  <a:pt x="17370" y="11539"/>
                  <a:pt x="17363" y="11708"/>
                </a:cubicBezTo>
              </a:path>
              <a:path w="1068" h="2556">
                <a:moveTo>
                  <a:pt x="17264" y="11906"/>
                </a:moveTo>
                <a:cubicBezTo>
                  <a:pt x="17229" y="12059"/>
                  <a:pt x="17200" y="12092"/>
                  <a:pt x="17363" y="12105"/>
                </a:cubicBezTo>
              </a:path>
              <a:path w="1068" h="2556">
                <a:moveTo>
                  <a:pt x="17462" y="11857"/>
                </a:moveTo>
                <a:cubicBezTo>
                  <a:pt x="17427" y="11954"/>
                  <a:pt x="17409" y="12052"/>
                  <a:pt x="17388" y="12154"/>
                </a:cubicBezTo>
              </a:path>
              <a:path w="1068" h="2556">
                <a:moveTo>
                  <a:pt x="16644" y="12452"/>
                </a:moveTo>
                <a:cubicBezTo>
                  <a:pt x="17003" y="12418"/>
                  <a:pt x="17353" y="12382"/>
                  <a:pt x="17711" y="12402"/>
                </a:cubicBezTo>
              </a:path>
              <a:path w="1068" h="2556">
                <a:moveTo>
                  <a:pt x="17438" y="12576"/>
                </a:moveTo>
                <a:cubicBezTo>
                  <a:pt x="17389" y="12674"/>
                  <a:pt x="17263" y="12991"/>
                  <a:pt x="17512" y="12973"/>
                </a:cubicBezTo>
                <a:cubicBezTo>
                  <a:pt x="17689" y="12961"/>
                  <a:pt x="17625" y="12784"/>
                  <a:pt x="17611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94040" y="4697280"/>
            <a:ext cx="268200" cy="214560"/>
          </a:xfrm>
          <a:custGeom>
            <a:avLst/>
            <a:gdLst/>
            <a:ahLst/>
            <a:rect l="l" t="t" r="r" b="b"/>
            <a:pathLst>
              <a:path w="745" h="597">
                <a:moveTo>
                  <a:pt x="8062" y="13122"/>
                </a:moveTo>
                <a:cubicBezTo>
                  <a:pt x="8055" y="13275"/>
                  <a:pt x="7994" y="13472"/>
                  <a:pt x="8062" y="13618"/>
                </a:cubicBezTo>
                <a:cubicBezTo>
                  <a:pt x="8070" y="13618"/>
                  <a:pt x="8078" y="13618"/>
                  <a:pt x="8086" y="13618"/>
                </a:cubicBezTo>
                <a:cubicBezTo>
                  <a:pt x="8233" y="13618"/>
                  <a:pt x="8353" y="13543"/>
                  <a:pt x="8409" y="13370"/>
                </a:cubicBezTo>
                <a:cubicBezTo>
                  <a:pt x="8409" y="13304"/>
                  <a:pt x="8409" y="13287"/>
                  <a:pt x="8409" y="13246"/>
                </a:cubicBezTo>
                <a:cubicBezTo>
                  <a:pt x="8383" y="13366"/>
                  <a:pt x="8355" y="13566"/>
                  <a:pt x="8558" y="13543"/>
                </a:cubicBezTo>
                <a:cubicBezTo>
                  <a:pt x="8735" y="13523"/>
                  <a:pt x="8801" y="13313"/>
                  <a:pt x="8756" y="13171"/>
                </a:cubicBezTo>
                <a:cubicBezTo>
                  <a:pt x="8710" y="13102"/>
                  <a:pt x="8697" y="13082"/>
                  <a:pt x="8657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03720" y="4687920"/>
            <a:ext cx="117360" cy="63360"/>
          </a:xfrm>
          <a:custGeom>
            <a:avLst/>
            <a:gdLst/>
            <a:ahLst/>
            <a:rect l="l" t="t" r="r" b="b"/>
            <a:pathLst>
              <a:path w="323" h="175">
                <a:moveTo>
                  <a:pt x="9178" y="13022"/>
                </a:moveTo>
                <a:cubicBezTo>
                  <a:pt x="9269" y="13022"/>
                  <a:pt x="9360" y="13022"/>
                  <a:pt x="9451" y="13022"/>
                </a:cubicBezTo>
              </a:path>
              <a:path w="323" h="175">
                <a:moveTo>
                  <a:pt x="9227" y="13196"/>
                </a:moveTo>
                <a:cubicBezTo>
                  <a:pt x="9319" y="13177"/>
                  <a:pt x="9408" y="13155"/>
                  <a:pt x="9500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94120" y="4572000"/>
            <a:ext cx="123840" cy="223920"/>
          </a:xfrm>
          <a:custGeom>
            <a:avLst/>
            <a:gdLst/>
            <a:ahLst/>
            <a:rect l="l" t="t" r="r" b="b"/>
            <a:pathLst>
              <a:path w="348" h="621">
                <a:moveTo>
                  <a:pt x="10864" y="12824"/>
                </a:moveTo>
                <a:cubicBezTo>
                  <a:pt x="10852" y="12925"/>
                  <a:pt x="10818" y="12986"/>
                  <a:pt x="10840" y="13072"/>
                </a:cubicBezTo>
                <a:cubicBezTo>
                  <a:pt x="10966" y="13072"/>
                  <a:pt x="11025" y="13064"/>
                  <a:pt x="11112" y="13022"/>
                </a:cubicBezTo>
              </a:path>
              <a:path w="348" h="621">
                <a:moveTo>
                  <a:pt x="11162" y="12700"/>
                </a:moveTo>
                <a:cubicBezTo>
                  <a:pt x="11130" y="12888"/>
                  <a:pt x="11139" y="13084"/>
                  <a:pt x="11088" y="13271"/>
                </a:cubicBezTo>
                <a:cubicBezTo>
                  <a:pt x="11080" y="13287"/>
                  <a:pt x="11071" y="13304"/>
                  <a:pt x="11063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52960" y="4581360"/>
            <a:ext cx="1440" cy="214560"/>
          </a:xfrm>
          <a:custGeom>
            <a:avLst/>
            <a:gdLst/>
            <a:ahLst/>
            <a:rect l="l" t="t" r="r" b="b"/>
            <a:pathLst>
              <a:path w="1" h="596">
                <a:moveTo>
                  <a:pt x="11534" y="12725"/>
                </a:moveTo>
                <a:cubicBezTo>
                  <a:pt x="11534" y="12923"/>
                  <a:pt x="11534" y="13122"/>
                  <a:pt x="11534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68760" y="5340240"/>
            <a:ext cx="1446120" cy="374760"/>
          </a:xfrm>
          <a:custGeom>
            <a:avLst/>
            <a:gdLst/>
            <a:ahLst/>
            <a:rect l="l" t="t" r="r" b="b"/>
            <a:pathLst>
              <a:path w="4020" h="1043">
                <a:moveTo>
                  <a:pt x="7714" y="15280"/>
                </a:moveTo>
                <a:cubicBezTo>
                  <a:pt x="7730" y="15360"/>
                  <a:pt x="7722" y="15397"/>
                  <a:pt x="7689" y="15478"/>
                </a:cubicBezTo>
                <a:cubicBezTo>
                  <a:pt x="7849" y="15493"/>
                  <a:pt x="7935" y="15484"/>
                  <a:pt x="8086" y="15429"/>
                </a:cubicBezTo>
              </a:path>
              <a:path w="4020" h="1043">
                <a:moveTo>
                  <a:pt x="8037" y="15056"/>
                </a:moveTo>
                <a:cubicBezTo>
                  <a:pt x="8003" y="15289"/>
                  <a:pt x="7942" y="15520"/>
                  <a:pt x="7913" y="15751"/>
                </a:cubicBezTo>
              </a:path>
              <a:path w="4020" h="1043">
                <a:moveTo>
                  <a:pt x="8558" y="14883"/>
                </a:moveTo>
                <a:cubicBezTo>
                  <a:pt x="8440" y="15118"/>
                  <a:pt x="8278" y="15353"/>
                  <a:pt x="8285" y="15627"/>
                </a:cubicBezTo>
                <a:cubicBezTo>
                  <a:pt x="8290" y="15792"/>
                  <a:pt x="8388" y="15820"/>
                  <a:pt x="8508" y="15875"/>
                </a:cubicBezTo>
              </a:path>
              <a:path w="4020" h="1043">
                <a:moveTo>
                  <a:pt x="8756" y="15156"/>
                </a:moveTo>
                <a:cubicBezTo>
                  <a:pt x="8714" y="15235"/>
                  <a:pt x="8661" y="15325"/>
                  <a:pt x="8632" y="15404"/>
                </a:cubicBezTo>
                <a:cubicBezTo>
                  <a:pt x="8740" y="15398"/>
                  <a:pt x="8846" y="15386"/>
                  <a:pt x="8954" y="15379"/>
                </a:cubicBezTo>
              </a:path>
              <a:path w="4020" h="1043">
                <a:moveTo>
                  <a:pt x="8855" y="15106"/>
                </a:moveTo>
                <a:cubicBezTo>
                  <a:pt x="8862" y="15281"/>
                  <a:pt x="8880" y="15452"/>
                  <a:pt x="8880" y="15627"/>
                </a:cubicBezTo>
              </a:path>
              <a:path w="4020" h="1043">
                <a:moveTo>
                  <a:pt x="9079" y="15056"/>
                </a:moveTo>
                <a:cubicBezTo>
                  <a:pt x="9079" y="15230"/>
                  <a:pt x="9079" y="15403"/>
                  <a:pt x="9079" y="15577"/>
                </a:cubicBezTo>
              </a:path>
              <a:path w="4020" h="1043">
                <a:moveTo>
                  <a:pt x="9227" y="14883"/>
                </a:moveTo>
                <a:cubicBezTo>
                  <a:pt x="9395" y="15227"/>
                  <a:pt x="9452" y="15364"/>
                  <a:pt x="9327" y="15726"/>
                </a:cubicBezTo>
              </a:path>
              <a:path w="4020" h="1043">
                <a:moveTo>
                  <a:pt x="9798" y="15280"/>
                </a:moveTo>
                <a:cubicBezTo>
                  <a:pt x="9897" y="15243"/>
                  <a:pt x="9968" y="15215"/>
                  <a:pt x="10071" y="15205"/>
                </a:cubicBezTo>
              </a:path>
              <a:path w="4020" h="1043">
                <a:moveTo>
                  <a:pt x="9823" y="15404"/>
                </a:moveTo>
                <a:cubicBezTo>
                  <a:pt x="9911" y="15380"/>
                  <a:pt x="10002" y="15371"/>
                  <a:pt x="10096" y="15354"/>
                </a:cubicBezTo>
              </a:path>
              <a:path w="4020" h="1043">
                <a:moveTo>
                  <a:pt x="10542" y="14932"/>
                </a:moveTo>
                <a:cubicBezTo>
                  <a:pt x="10542" y="15094"/>
                  <a:pt x="10539" y="15244"/>
                  <a:pt x="10517" y="15404"/>
                </a:cubicBezTo>
              </a:path>
              <a:path w="4020" h="1043">
                <a:moveTo>
                  <a:pt x="10864" y="14908"/>
                </a:moveTo>
                <a:cubicBezTo>
                  <a:pt x="10844" y="15069"/>
                  <a:pt x="10807" y="15190"/>
                  <a:pt x="10840" y="15354"/>
                </a:cubicBezTo>
                <a:cubicBezTo>
                  <a:pt x="10871" y="15507"/>
                  <a:pt x="11081" y="15403"/>
                  <a:pt x="11137" y="15329"/>
                </a:cubicBezTo>
                <a:cubicBezTo>
                  <a:pt x="11145" y="15304"/>
                  <a:pt x="11154" y="15280"/>
                  <a:pt x="11162" y="15255"/>
                </a:cubicBezTo>
                <a:cubicBezTo>
                  <a:pt x="11077" y="15204"/>
                  <a:pt x="10985" y="15294"/>
                  <a:pt x="10939" y="15379"/>
                </a:cubicBezTo>
                <a:cubicBezTo>
                  <a:pt x="10939" y="15396"/>
                  <a:pt x="10939" y="15412"/>
                  <a:pt x="10939" y="15429"/>
                </a:cubicBezTo>
              </a:path>
              <a:path w="4020" h="1043">
                <a:moveTo>
                  <a:pt x="11410" y="15007"/>
                </a:moveTo>
                <a:cubicBezTo>
                  <a:pt x="11388" y="15081"/>
                  <a:pt x="11329" y="15230"/>
                  <a:pt x="11460" y="15230"/>
                </a:cubicBezTo>
                <a:cubicBezTo>
                  <a:pt x="11493" y="15222"/>
                  <a:pt x="11526" y="15213"/>
                  <a:pt x="11559" y="15205"/>
                </a:cubicBezTo>
              </a:path>
              <a:path w="4020" h="1043">
                <a:moveTo>
                  <a:pt x="11708" y="14833"/>
                </a:moveTo>
                <a:cubicBezTo>
                  <a:pt x="11661" y="15031"/>
                  <a:pt x="11620" y="15228"/>
                  <a:pt x="11584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53000" y="5224320"/>
            <a:ext cx="482400" cy="330480"/>
          </a:xfrm>
          <a:custGeom>
            <a:avLst/>
            <a:gdLst/>
            <a:ahLst/>
            <a:rect l="l" t="t" r="r" b="b"/>
            <a:pathLst>
              <a:path w="1341" h="919">
                <a:moveTo>
                  <a:pt x="12923" y="15056"/>
                </a:moveTo>
                <a:cubicBezTo>
                  <a:pt x="12954" y="15186"/>
                  <a:pt x="12976" y="15299"/>
                  <a:pt x="12998" y="15429"/>
                </a:cubicBezTo>
                <a:cubicBezTo>
                  <a:pt x="13354" y="15160"/>
                  <a:pt x="13522" y="14797"/>
                  <a:pt x="13965" y="14585"/>
                </a:cubicBezTo>
                <a:cubicBezTo>
                  <a:pt x="14064" y="14560"/>
                  <a:pt x="14164" y="14536"/>
                  <a:pt x="14263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14760" y="5956200"/>
            <a:ext cx="455400" cy="714600"/>
          </a:xfrm>
          <a:custGeom>
            <a:avLst/>
            <a:gdLst/>
            <a:ahLst/>
            <a:rect l="l" t="t" r="r" b="b"/>
            <a:pathLst>
              <a:path w="1266" h="1985">
                <a:moveTo>
                  <a:pt x="7938" y="16793"/>
                </a:moveTo>
                <a:cubicBezTo>
                  <a:pt x="7918" y="16853"/>
                  <a:pt x="7919" y="16868"/>
                  <a:pt x="7888" y="16892"/>
                </a:cubicBezTo>
                <a:cubicBezTo>
                  <a:pt x="8001" y="16885"/>
                  <a:pt x="8099" y="16868"/>
                  <a:pt x="8210" y="16842"/>
                </a:cubicBezTo>
              </a:path>
              <a:path w="1266" h="1985">
                <a:moveTo>
                  <a:pt x="8210" y="16669"/>
                </a:moveTo>
                <a:cubicBezTo>
                  <a:pt x="8150" y="16801"/>
                  <a:pt x="8095" y="16933"/>
                  <a:pt x="8037" y="17066"/>
                </a:cubicBezTo>
              </a:path>
              <a:path w="1266" h="1985">
                <a:moveTo>
                  <a:pt x="8533" y="16545"/>
                </a:moveTo>
                <a:cubicBezTo>
                  <a:pt x="8526" y="16705"/>
                  <a:pt x="8508" y="16857"/>
                  <a:pt x="8483" y="17016"/>
                </a:cubicBezTo>
              </a:path>
              <a:path w="1266" h="1985">
                <a:moveTo>
                  <a:pt x="8235" y="17239"/>
                </a:moveTo>
                <a:cubicBezTo>
                  <a:pt x="8258" y="17309"/>
                  <a:pt x="8260" y="17364"/>
                  <a:pt x="8260" y="17438"/>
                </a:cubicBezTo>
                <a:cubicBezTo>
                  <a:pt x="8378" y="17416"/>
                  <a:pt x="8451" y="17373"/>
                  <a:pt x="8558" y="17314"/>
                </a:cubicBezTo>
              </a:path>
              <a:path w="1266" h="1985">
                <a:moveTo>
                  <a:pt x="8607" y="17190"/>
                </a:moveTo>
                <a:cubicBezTo>
                  <a:pt x="8576" y="17316"/>
                  <a:pt x="8556" y="17433"/>
                  <a:pt x="8533" y="17562"/>
                </a:cubicBezTo>
              </a:path>
              <a:path w="1266" h="1985">
                <a:moveTo>
                  <a:pt x="7541" y="17934"/>
                </a:moveTo>
                <a:cubicBezTo>
                  <a:pt x="7904" y="17836"/>
                  <a:pt x="8253" y="17724"/>
                  <a:pt x="8632" y="17686"/>
                </a:cubicBezTo>
                <a:cubicBezTo>
                  <a:pt x="8690" y="17686"/>
                  <a:pt x="8748" y="17686"/>
                  <a:pt x="8806" y="17686"/>
                </a:cubicBezTo>
              </a:path>
              <a:path w="1266" h="1985">
                <a:moveTo>
                  <a:pt x="8458" y="17934"/>
                </a:moveTo>
                <a:cubicBezTo>
                  <a:pt x="8430" y="18020"/>
                  <a:pt x="8403" y="18078"/>
                  <a:pt x="8359" y="18157"/>
                </a:cubicBezTo>
                <a:cubicBezTo>
                  <a:pt x="8466" y="18211"/>
                  <a:pt x="8534" y="18143"/>
                  <a:pt x="8632" y="18083"/>
                </a:cubicBezTo>
              </a:path>
              <a:path w="1266" h="1985">
                <a:moveTo>
                  <a:pt x="8706" y="17884"/>
                </a:moveTo>
                <a:cubicBezTo>
                  <a:pt x="8600" y="17930"/>
                  <a:pt x="8589" y="18083"/>
                  <a:pt x="8558" y="18207"/>
                </a:cubicBezTo>
                <a:cubicBezTo>
                  <a:pt x="8537" y="18289"/>
                  <a:pt x="8529" y="18304"/>
                  <a:pt x="8533" y="18355"/>
                </a:cubicBezTo>
              </a:path>
              <a:path w="1266" h="1985">
                <a:moveTo>
                  <a:pt x="7962" y="18083"/>
                </a:moveTo>
                <a:lnTo>
                  <a:pt x="7962" y="18083"/>
                </a:lnTo>
              </a:path>
              <a:path w="1266" h="1985">
                <a:moveTo>
                  <a:pt x="7913" y="18083"/>
                </a:moveTo>
                <a:cubicBezTo>
                  <a:pt x="8030" y="17994"/>
                  <a:pt x="7901" y="18268"/>
                  <a:pt x="7888" y="18306"/>
                </a:cubicBezTo>
                <a:cubicBezTo>
                  <a:pt x="7863" y="18355"/>
                  <a:pt x="7855" y="18372"/>
                  <a:pt x="7888" y="18405"/>
                </a:cubicBezTo>
                <a:cubicBezTo>
                  <a:pt x="8036" y="18386"/>
                  <a:pt x="8102" y="18354"/>
                  <a:pt x="8186" y="18231"/>
                </a:cubicBezTo>
                <a:cubicBezTo>
                  <a:pt x="8194" y="18215"/>
                  <a:pt x="8202" y="18198"/>
                  <a:pt x="8210" y="18182"/>
                </a:cubicBezTo>
                <a:cubicBezTo>
                  <a:pt x="8075" y="18209"/>
                  <a:pt x="8008" y="18243"/>
                  <a:pt x="7962" y="18380"/>
                </a:cubicBezTo>
              </a:path>
              <a:path w="1266" h="1985">
                <a:moveTo>
                  <a:pt x="7739" y="18083"/>
                </a:moveTo>
                <a:cubicBezTo>
                  <a:pt x="7761" y="18247"/>
                  <a:pt x="7718" y="18369"/>
                  <a:pt x="7665" y="185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827640" y="2209680"/>
            <a:ext cx="69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e WS multiplication problem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7:59:31Z</dcterms:created>
  <dc:creator>ccps</dc:creator>
  <dc:description/>
  <dc:language>en-US</dc:language>
  <cp:lastModifiedBy>deanne elizabeth mcgrath</cp:lastModifiedBy>
  <dcterms:modified xsi:type="dcterms:W3CDTF">2011-01-10T18:35:10Z</dcterms:modified>
  <cp:revision>25</cp:revision>
  <dc:subject/>
  <dc:title>Chapter 2 Integer Operations</dc:title>
</cp:coreProperties>
</file>